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F7175-660E-4AA2-8FFD-B04D23729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3"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4"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7C50A-B8E8-4532-813F-5C704989C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6"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7"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8"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9"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7C8C6-C2E1-4EC7-89B3-0B41CAE0C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41"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2"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3"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4"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5"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6"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1C432-D2B1-4A0E-BBDA-675391C69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B7A92-7A1D-4B73-854D-0A9AE1EE1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56"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74064-26FF-46C6-BE7C-DFA42C1DE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58"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D709A-F523-4B2E-BB0B-4BCF746DD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0"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1"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07430-2FE3-47A4-A556-B495CA176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B0144-B348-4CB8-A7BE-E1B5042D3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007BD-CC88-409B-A237-5D4613D51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5"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6"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7"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FCA70-9620-4206-AE1F-76116F9DE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20B3-86D6-4F8B-BD15-71D8FBCF6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9"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1"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C3948-905C-451C-A54B-ED27E0BF3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73"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4"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5"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DCDBE-678E-4A26-8378-515EADDC3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77"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8"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CFAD9-DDE6-4079-B70D-65CD48534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80"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1"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2"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3"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F74B8-DBC9-4367-9EA6-9B4E4416C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85"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6"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7"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8"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9"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0"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5B8C5-9F7C-473C-A936-2057441C4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A70E77-2571-45C0-B4B9-05550D1CB3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0"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35CAF-0A65-4544-86F7-89B8569F0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2"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CD633-576F-4E24-9474-B4559CF6C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4"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05"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37EC21-0626-4574-83B0-778DECA64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3A892-BD40-4417-83E5-DAB112112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E695C-B40F-4C81-B26E-587C4FF78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49BAF-0C84-4DFB-A46C-7179928D5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0"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1"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05F09-4BFD-4F12-B32C-ED675947A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13"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4"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5"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3BC52-20F2-4B92-A52F-3CA957497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17"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8"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9"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106DE-42AC-4A6C-A2DE-63A94DAE7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1"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2"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FC308-1E9C-4DA3-8149-AF5CC2E68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4"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5"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6"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7"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0C6A1-0DBE-4AB7-A582-5F08C85391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9"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0"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1"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2"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3"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4"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9DDA5E-19D0-48CB-AA6D-01EDA162DA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9130FD-34D9-4E6B-9345-908BD23E8E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5"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FAF74-3AD9-4196-97E2-0EF96CB91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7"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18AFA-0F58-45BD-90E2-938FC365E2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46DF9-96F7-47C9-BF60-5E0F93A82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9"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0"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66F03-D25E-4402-90E8-09F1DDCC6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A390EA-E1B7-43CA-AD5D-95E7B9CC3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4E9FC-A3D1-43A3-B497-0C62ADD5A8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54"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5"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6"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B18EC-1FEA-4212-9B69-F614C3377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58"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9"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0"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7CE44-959A-4995-83F8-587C830F9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2"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3"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4"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442BF-CD13-49AC-8E47-5F539D892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6"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7"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4CBF7-6549-4F26-8F9D-EAF03BBAF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1"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2"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E4307-CD11-4E04-B226-3AA5218A5E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74"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5"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6"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7"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8"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9"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F3FD7C-9482-4F41-A1B1-D2FBEEC4AC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EDD92-B069-475B-A346-E417623E8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06B28-948B-4F07-B3B6-5357AB38B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1"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2"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3"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A518-816A-4609-8FCB-7766B753A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5"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6"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7"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D35DC-9FD4-4047-9F71-7BF3E8A2B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1"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45B1-FDE5-4498-987B-69185D0C7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168120" y="228600"/>
            <a:ext cx="8822880" cy="6095520"/>
            <a:chOff x="168120" y="228600"/>
            <a:chExt cx="8822880" cy="6095520"/>
          </a:xfrm>
        </p:grpSpPr>
        <p:sp>
          <p:nvSpPr>
            <p:cNvPr id="1"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2"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3" name="AutoShape 2"/>
          <p:cNvSpPr/>
          <p:nvPr/>
        </p:nvSpPr>
        <p:spPr>
          <a:xfrm>
            <a:off x="228600" y="380880"/>
            <a:ext cx="8686440" cy="5638320"/>
          </a:xfrm>
          <a:prstGeom prst="roundRect">
            <a:avLst>
              <a:gd name="adj" fmla="val 7912"/>
            </a:avLst>
          </a:prstGeom>
          <a:solidFill>
            <a:schemeClr val="folHlink"/>
          </a:solidFill>
          <a:ln w="0">
            <a:noFill/>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4" name="AutoShape 3"/>
          <p:cNvSpPr/>
          <p:nvPr/>
        </p:nvSpPr>
        <p:spPr>
          <a:xfrm>
            <a:off x="326880" y="488880"/>
            <a:ext cx="8435520" cy="4768560"/>
          </a:xfrm>
          <a:prstGeom prst="roundRect">
            <a:avLst>
              <a:gd name="adj" fmla="val 7310"/>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5" name="AutoShape 4"/>
          <p:cNvSpPr/>
          <p:nvPr/>
        </p:nvSpPr>
        <p:spPr>
          <a:xfrm>
            <a:off x="1371600" y="3338640"/>
            <a:ext cx="6400440" cy="2285640"/>
          </a:xfrm>
          <a:prstGeom prst="roundRect">
            <a:avLst>
              <a:gd name="adj" fmla="val 16667"/>
            </a:avLst>
          </a:prstGeom>
          <a:solidFill>
            <a:schemeClr val="bg1"/>
          </a:solidFill>
          <a:ln w="50800">
            <a:solidFill>
              <a:srgbClr val="cccc99"/>
            </a:solidFill>
            <a:round/>
          </a:ln>
        </p:spPr>
        <p:style>
          <a:lnRef idx="0"/>
          <a:fillRef idx="0"/>
          <a:effectRef idx="0"/>
          <a:fontRef idx="minor"/>
        </p:style>
        <p:txBody>
          <a:bodyPr wrap="none" lIns="90000" rIns="90000" tIns="45000" bIns="45000" anchor="ctr">
            <a:noAutofit/>
          </a:bodyPr>
          <a:p>
            <a:pPr algn="ctr">
              <a:lnSpc>
                <a:spcPct val="100000"/>
              </a:lnSpc>
            </a:pPr>
            <a:endParaRPr b="0" lang="ru-RU" sz="1800" spc="-1" strike="noStrike">
              <a:solidFill>
                <a:srgbClr val="000000"/>
              </a:solidFill>
              <a:latin typeface="Arial"/>
              <a:ea typeface="Arial"/>
            </a:endParaRPr>
          </a:p>
        </p:txBody>
      </p:sp>
      <p:sp>
        <p:nvSpPr>
          <p:cNvPr id="6" name="PlaceHolder 1"/>
          <p:cNvSpPr>
            <a:spLocks noGrp="1"/>
          </p:cNvSpPr>
          <p:nvPr>
            <p:ph type="title"/>
          </p:nvPr>
        </p:nvSpPr>
        <p:spPr>
          <a:xfrm>
            <a:off x="685800" y="857160"/>
            <a:ext cx="7772040" cy="2266560"/>
          </a:xfrm>
          <a:prstGeom prst="rect">
            <a:avLst/>
          </a:prstGeom>
          <a:noFill/>
          <a:ln w="0">
            <a:noFill/>
          </a:ln>
        </p:spPr>
        <p:txBody>
          <a:bodyPr numCol="1" spcCol="0" anchor="ctr" anchorCtr="1">
            <a:noAutofit/>
          </a:bodyPr>
          <a:p>
            <a:pPr indent="0" algn="ctr">
              <a:lnSpc>
                <a:spcPct val="100000"/>
              </a:lnSpc>
              <a:buNone/>
            </a:pPr>
            <a:r>
              <a:rPr b="0" i="1" lang="ru-RU" sz="4100" spc="-1" strike="noStrike">
                <a:solidFill>
                  <a:srgbClr val="336666"/>
                </a:solidFill>
                <a:latin typeface="Arial Black"/>
                <a:ea typeface="Arial"/>
              </a:rPr>
              <a:t>Образец заголовка</a:t>
            </a:r>
            <a:endParaRPr b="0" lang="ru-RU" sz="4100" spc="-1" strike="noStrike">
              <a:solidFill>
                <a:srgbClr val="000000"/>
              </a:solidFill>
              <a:latin typeface="Arial"/>
            </a:endParaRPr>
          </a:p>
        </p:txBody>
      </p:sp>
      <p:sp>
        <p:nvSpPr>
          <p:cNvPr id="7" name="PlaceHolder 2"/>
          <p:cNvSpPr>
            <a:spLocks noGrp="1"/>
          </p:cNvSpPr>
          <p:nvPr>
            <p:ph type="dt" idx="1"/>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3"/>
          <p:cNvSpPr>
            <a:spLocks noGrp="1"/>
          </p:cNvSpPr>
          <p:nvPr>
            <p:ph type="ftr" idx="2"/>
          </p:nvPr>
        </p:nvSpPr>
        <p:spPr>
          <a:xfrm>
            <a:off x="3352680" y="63914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4"/>
          <p:cNvSpPr>
            <a:spLocks noGrp="1"/>
          </p:cNvSpPr>
          <p:nvPr>
            <p:ph type="sldNum" idx="3"/>
          </p:nvPr>
        </p:nvSpPr>
        <p:spPr>
          <a:xfrm>
            <a:off x="6858000" y="639144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4998D6F0-1972-4DF9-BF96-00FF855DB4FA}"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100" spc="-1" strike="noStrike">
                <a:solidFill>
                  <a:srgbClr val="000000"/>
                </a:solidFill>
                <a:latin typeface="Arial"/>
              </a:rPr>
              <a:t>Click to edit the outline text format</a:t>
            </a:r>
            <a:endParaRPr b="0" lang="ru-RU" sz="31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7"/>
          <p:cNvGrpSpPr/>
          <p:nvPr/>
        </p:nvGrpSpPr>
        <p:grpSpPr>
          <a:xfrm>
            <a:off x="168120" y="228600"/>
            <a:ext cx="8822880" cy="6095520"/>
            <a:chOff x="168120" y="228600"/>
            <a:chExt cx="8822880" cy="6095520"/>
          </a:xfrm>
        </p:grpSpPr>
        <p:sp>
          <p:nvSpPr>
            <p:cNvPr id="48"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49"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50" name="PlaceHolder 1"/>
          <p:cNvSpPr>
            <a:spLocks noGrp="1"/>
          </p:cNvSpPr>
          <p:nvPr>
            <p:ph type="dt" idx="4"/>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93C148BE-A449-42E2-895D-4C0277ADC93B}"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3300" spc="-1" strike="noStrike">
                <a:solidFill>
                  <a:srgbClr val="000000"/>
                </a:solidFill>
                <a:latin typeface="Arial"/>
              </a:rPr>
              <a:t>Click to edit the title text format</a:t>
            </a:r>
            <a:endParaRPr b="0" lang="ru-RU" sz="33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100" spc="-1" strike="noStrike">
                <a:solidFill>
                  <a:srgbClr val="000000"/>
                </a:solidFill>
                <a:latin typeface="Arial"/>
              </a:rPr>
              <a:t>Click to edit the outline text format</a:t>
            </a:r>
            <a:endParaRPr b="0" lang="ru-RU" sz="31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7"/>
          <p:cNvGrpSpPr/>
          <p:nvPr/>
        </p:nvGrpSpPr>
        <p:grpSpPr>
          <a:xfrm>
            <a:off x="168120" y="228600"/>
            <a:ext cx="8822880" cy="6095520"/>
            <a:chOff x="168120" y="228600"/>
            <a:chExt cx="8822880" cy="6095520"/>
          </a:xfrm>
        </p:grpSpPr>
        <p:sp>
          <p:nvSpPr>
            <p:cNvPr id="92"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93"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9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разец заголовка</a:t>
            </a:r>
            <a:endParaRPr b="0" lang="ru-RU" sz="3300" spc="-1" strike="noStrike">
              <a:solidFill>
                <a:srgbClr val="000000"/>
              </a:solidFill>
              <a:latin typeface="Arial"/>
            </a:endParaRPr>
          </a:p>
        </p:txBody>
      </p:sp>
      <p:sp>
        <p:nvSpPr>
          <p:cNvPr id="95" name="PlaceHolder 2"/>
          <p:cNvSpPr>
            <a:spLocks noGrp="1"/>
          </p:cNvSpPr>
          <p:nvPr>
            <p:ph type="body"/>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96" name="PlaceHolder 3"/>
          <p:cNvSpPr>
            <a:spLocks noGrp="1"/>
          </p:cNvSpPr>
          <p:nvPr>
            <p:ph type="dt" idx="7"/>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6AE94060-E63C-4F7C-915B-04958845A51D}"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168120" y="228600"/>
            <a:ext cx="8822880" cy="6095520"/>
            <a:chOff x="168120" y="228600"/>
            <a:chExt cx="8822880" cy="6095520"/>
          </a:xfrm>
        </p:grpSpPr>
        <p:sp>
          <p:nvSpPr>
            <p:cNvPr id="136"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137"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13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разец заголовка</a:t>
            </a:r>
            <a:endParaRPr b="0" lang="ru-RU" sz="3300" spc="-1" strike="noStrike">
              <a:solidFill>
                <a:srgbClr val="000000"/>
              </a:solidFill>
              <a:latin typeface="Arial"/>
            </a:endParaRPr>
          </a:p>
        </p:txBody>
      </p:sp>
      <p:sp>
        <p:nvSpPr>
          <p:cNvPr id="139" name="PlaceHolder 2"/>
          <p:cNvSpPr>
            <a:spLocks noGrp="1"/>
          </p:cNvSpPr>
          <p:nvPr>
            <p:ph type="body"/>
          </p:nvPr>
        </p:nvSpPr>
        <p:spPr>
          <a:xfrm>
            <a:off x="762120" y="1905120"/>
            <a:ext cx="3771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140" name="PlaceHolder 3"/>
          <p:cNvSpPr>
            <a:spLocks noGrp="1"/>
          </p:cNvSpPr>
          <p:nvPr>
            <p:ph type="body"/>
          </p:nvPr>
        </p:nvSpPr>
        <p:spPr>
          <a:xfrm>
            <a:off x="4686480" y="1905120"/>
            <a:ext cx="3771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141" name="PlaceHolder 4"/>
          <p:cNvSpPr>
            <a:spLocks noGrp="1"/>
          </p:cNvSpPr>
          <p:nvPr>
            <p:ph type="dt" idx="10"/>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E454257B-4635-434D-933D-052E7A985A3C}"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consultantplus://offline/ref=93F996C79CA4B076BC57CAFF5B44729DC7FFCB7BE9783534CE8F111DEEsCU" TargetMode="External"/><Relationship Id="rId2" Type="http://schemas.openxmlformats.org/officeDocument/2006/relationships/hyperlink" Target="http://base.garant.ru/1785383/#block_6" TargetMode="External"/><Relationship Id="rId3" Type="http://schemas.openxmlformats.org/officeDocument/2006/relationships/hyperlink" Target="http://base.garant.ru/39635977/" TargetMode="External"/><Relationship Id="rId4" Type="http://schemas.openxmlformats.org/officeDocument/2006/relationships/hyperlink" Target="http://base.garant.ru/55659008/" TargetMode="External"/><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vsrf.ru/stor_pdf.php?id=670676"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hyperlink" Target="consultantplus://offline/ref=509ACC034E1FC0B459FD80783B15206FE957DB74458B559B3116CC10F81D24274D95EE3C0A722372QEs7T" TargetMode="External"/><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hyperlink" Target="consultantplus://offline/ref=70153F9412AB134B5600E6F4BC2EEBEE76B85E7FB1E5A003EC2A1DD5AED1AB321A9C4885CB5787B3L7VFT"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hyperlink" Target="consultantplus://offline/ref=42D910F9FE886A851976B492C39A138B96EA272F1CB2D67CCEB1290AF1F7C0360E99BBCCC8E03632h1p8R" TargetMode="External"/><Relationship Id="rId2" Type="http://schemas.openxmlformats.org/officeDocument/2006/relationships/hyperlink" Target="consultantplus://offline/ref=42D910F9FE886A851976B981D69A138B94E629291DBBD67CCEB1290AF1F7C0360E99BBCCC8E23632h1pCR" TargetMode="External"/><Relationship Id="rId3"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hyperlink" Target="consultantplus://offline/ref=93F996C79CA4B076BC57CAFF5B44729DC7FFCB7BE9783534CE8F111DEEsCU" TargetMode="External"/><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55640" y="549360"/>
            <a:ext cx="6912360" cy="2209320"/>
          </a:xfrm>
          <a:prstGeom prst="rect">
            <a:avLst/>
          </a:prstGeom>
          <a:noFill/>
          <a:ln w="0">
            <a:noFill/>
          </a:ln>
        </p:spPr>
        <p:txBody>
          <a:bodyPr numCol="1" spcCol="0" anchor="ctr" anchorCtr="1">
            <a:noAutofit/>
          </a:bodyPr>
          <a:p>
            <a:pPr indent="0" algn="ctr">
              <a:lnSpc>
                <a:spcPct val="100000"/>
              </a:lnSpc>
              <a:buNone/>
            </a:pPr>
            <a:r>
              <a:rPr b="1" i="1" lang="ru-RU" sz="2900" spc="-1" strike="noStrike">
                <a:solidFill>
                  <a:srgbClr val="336666"/>
                </a:solidFill>
                <a:latin typeface="Arial Black"/>
                <a:ea typeface="Arial"/>
              </a:rPr>
              <a:t>Лекция № 8  </a:t>
            </a:r>
            <a:endParaRPr b="0" lang="ru-RU" sz="2900" spc="-1" strike="noStrike">
              <a:solidFill>
                <a:srgbClr val="000000"/>
              </a:solidFill>
              <a:latin typeface="Arial"/>
            </a:endParaRPr>
          </a:p>
        </p:txBody>
      </p:sp>
      <p:sp>
        <p:nvSpPr>
          <p:cNvPr id="181" name="PlaceHolder 2"/>
          <p:cNvSpPr>
            <a:spLocks noGrp="1"/>
          </p:cNvSpPr>
          <p:nvPr>
            <p:ph type="subTitle"/>
          </p:nvPr>
        </p:nvSpPr>
        <p:spPr>
          <a:xfrm>
            <a:off x="1835640" y="3429000"/>
            <a:ext cx="5688360" cy="2088000"/>
          </a:xfrm>
          <a:prstGeom prst="rect">
            <a:avLst/>
          </a:prstGeom>
          <a:solidFill>
            <a:schemeClr val="accent1"/>
          </a:solidFill>
          <a:ln w="0">
            <a:noFill/>
          </a:ln>
        </p:spPr>
        <p:txBody>
          <a:bodyPr numCol="1" spcCol="0" anchor="ctr">
            <a:noAutofit/>
          </a:bodyPr>
          <a:p>
            <a:pPr indent="0" algn="ctr">
              <a:lnSpc>
                <a:spcPct val="100000"/>
              </a:lnSpc>
              <a:spcBef>
                <a:spcPts val="641"/>
              </a:spcBef>
              <a:buNone/>
              <a:tabLst>
                <a:tab algn="l" pos="0"/>
              </a:tabLst>
            </a:pPr>
            <a:r>
              <a:rPr b="0" i="1" lang="ru-RU" sz="3200" spc="-1" strike="noStrike">
                <a:solidFill>
                  <a:srgbClr val="000000"/>
                </a:solidFill>
                <a:latin typeface="Arial"/>
                <a:ea typeface="Arial"/>
              </a:rPr>
              <a:t> </a:t>
            </a:r>
            <a:r>
              <a:rPr b="0" i="1" lang="ru-RU" sz="3200" spc="-1" strike="noStrike">
                <a:solidFill>
                  <a:srgbClr val="000000"/>
                </a:solidFill>
                <a:latin typeface="Arial"/>
                <a:ea typeface="Arial"/>
              </a:rPr>
              <a:t>Актуальные проблемы обязательственного пра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снования возникновения обязательств</a:t>
            </a:r>
            <a:endParaRPr b="0" lang="ru-RU" sz="3300" spc="-1" strike="noStrike">
              <a:solidFill>
                <a:srgbClr val="000000"/>
              </a:solidFill>
              <a:latin typeface="Arial"/>
            </a:endParaRPr>
          </a:p>
        </p:txBody>
      </p:sp>
      <p:sp>
        <p:nvSpPr>
          <p:cNvPr id="19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т. 8, п.2 ст. 366 ГК ДНР: проблемы соотнош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опытка расширительного толкования за счет признания неких «фактических» отношений подрядными и т.п.</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язательства по компенсации за долю в имуществе</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a:p>
            <a:pPr marL="343080"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снования возникновения </a:t>
            </a:r>
            <a:endParaRPr b="0" lang="ru-RU" sz="2900" spc="-1" strike="noStrike">
              <a:solidFill>
                <a:srgbClr val="000000"/>
              </a:solidFill>
              <a:latin typeface="Arial"/>
            </a:endParaRPr>
          </a:p>
        </p:txBody>
      </p:sp>
      <p:sp>
        <p:nvSpPr>
          <p:cNvPr id="20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1" lang="ru-RU" sz="1600" spc="-1" strike="noStrike">
                <a:solidFill>
                  <a:srgbClr val="000000"/>
                </a:solidFill>
                <a:latin typeface="Arial"/>
                <a:ea typeface="Arial"/>
              </a:rPr>
              <a:t>Проблема соотношения договорных / недоговорных обязательств – ст.  460</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ОТВЕТСТВЕННОСТЬ ЕДИНОЛИЧНОГО ОРГАНА - НОВЫЙ ВИД ДЕЛИКТНОГО ОБЯЗАТЕЛЬСТВА  /недоговорная/ Постановление Президиума ВАС  от 24.06.2014 N 3159/14 по делу N А05-15514/2012</a:t>
            </a:r>
            <a:br>
              <a:rPr sz="1600"/>
            </a:br>
            <a:r>
              <a:rPr b="0" lang="ru-RU" sz="1600" spc="-1" strike="noStrike">
                <a:solidFill>
                  <a:srgbClr val="000000"/>
                </a:solidFill>
                <a:latin typeface="Arial"/>
                <a:ea typeface="Arial"/>
              </a:rPr>
              <a:t>Требование: О взыскании убытков, причиненных руководителем юридического лица.</a:t>
            </a:r>
            <a:br>
              <a:rPr sz="1600"/>
            </a:br>
            <a:r>
              <a:rPr b="0" lang="ru-RU" sz="1600" spc="-1" strike="noStrike">
                <a:solidFill>
                  <a:srgbClr val="000000"/>
                </a:solidFill>
                <a:latin typeface="Arial"/>
                <a:ea typeface="Arial"/>
              </a:rPr>
              <a:t>Обстоятельства: Заявитель полагает, что недобросовестными и неразумными действиями генерального директора обществу причинены убытки.</a:t>
            </a:r>
            <a:br>
              <a:rPr sz="1600"/>
            </a:br>
            <a:r>
              <a:rPr b="0" lang="ru-RU" sz="1600" spc="-1" strike="noStrike">
                <a:solidFill>
                  <a:srgbClr val="000000"/>
                </a:solidFill>
                <a:latin typeface="Arial"/>
                <a:ea typeface="Arial"/>
              </a:rPr>
              <a:t>Решение: Требование удовлетворено, поскольку: 1) Ответчик подписал акт приемки работ по договору подряда и справку о стоимости этих работ, заведомо зная о фактическом невыполнении работ; 2) Истец не получил возмещения убытков от подрядчика.</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Аналогичная практика по привлечению к ответственности должностных лиц, признанных виновными в нарушении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ина в публичных правоотношениях</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685800"/>
            <a:ext cx="8229240" cy="1325160"/>
          </a:xfrm>
          <a:prstGeom prst="rect">
            <a:avLst/>
          </a:prstGeom>
          <a:noFill/>
          <a:ln w="0">
            <a:noFill/>
          </a:ln>
        </p:spPr>
        <p:txBody>
          <a:bodyPr numCol="1" spcCol="0" anchor="b">
            <a:noAutofit/>
          </a:bodyPr>
          <a:p>
            <a:pPr indent="0" algn="ctr">
              <a:lnSpc>
                <a:spcPct val="100000"/>
              </a:lnSpc>
              <a:buNone/>
            </a:pPr>
            <a:r>
              <a:rPr b="1" lang="ru-RU" sz="2900" spc="-1" strike="noStrike">
                <a:solidFill>
                  <a:srgbClr val="336666"/>
                </a:solidFill>
                <a:latin typeface="Arial Black"/>
                <a:ea typeface="Arial"/>
              </a:rPr>
              <a:t>Фактические действия как основания возникновения обязательства</a:t>
            </a:r>
            <a:br>
              <a:rPr sz="2900"/>
            </a:br>
            <a:endParaRPr b="0" lang="ru-RU" sz="2900" spc="-1" strike="noStrike">
              <a:solidFill>
                <a:srgbClr val="000000"/>
              </a:solidFill>
              <a:latin typeface="Arial"/>
            </a:endParaRPr>
          </a:p>
        </p:txBody>
      </p:sp>
      <p:sp>
        <p:nvSpPr>
          <p:cNvPr id="202" name="PlaceHolder 2"/>
          <p:cNvSpPr>
            <a:spLocks noGrp="1"/>
          </p:cNvSpPr>
          <p:nvPr>
            <p:ph/>
          </p:nvPr>
        </p:nvSpPr>
        <p:spPr>
          <a:xfrm>
            <a:off x="457200" y="1828800"/>
            <a:ext cx="8229240" cy="4525560"/>
          </a:xfrm>
          <a:prstGeom prst="rect">
            <a:avLst/>
          </a:prstGeom>
          <a:noFill/>
          <a:ln w="0">
            <a:noFill/>
          </a:ln>
        </p:spPr>
        <p:txBody>
          <a:bodyPr numCol="1" spcCol="0" anchor="t">
            <a:noAutofit/>
          </a:bodyPr>
          <a:p>
            <a:pPr marL="343080" indent="-343080" algn="just">
              <a:lnSpc>
                <a:spcPct val="8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Определение ВС РФ от 19 января 2015 по делу №А77-602/2013 – гос.нужды. Обход закона.</a:t>
            </a:r>
            <a:br>
              <a:rPr sz="2200"/>
            </a:br>
            <a:r>
              <a:rPr b="0" lang="ru-RU" sz="2200" spc="-1" strike="noStrike">
                <a:solidFill>
                  <a:srgbClr val="000000"/>
                </a:solidFill>
                <a:latin typeface="Arial"/>
                <a:ea typeface="Arial"/>
              </a:rPr>
              <a:t>Определение ВС РФ № 310-ЭС15-4730 от 08.09.2015г. – требование о квалификации отношений из договора аренды как фактических инвестиционных и признании права собственности на реконструированное арендованное имущество (отказано)</a:t>
            </a:r>
            <a:endParaRPr b="0" lang="ru-RU" sz="2200" spc="-1" strike="noStrike">
              <a:solidFill>
                <a:srgbClr val="000000"/>
              </a:solidFill>
              <a:latin typeface="Arial"/>
            </a:endParaRPr>
          </a:p>
          <a:p>
            <a:pPr marL="343080" indent="-343080" algn="just">
              <a:lnSpc>
                <a:spcPct val="8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Учет экономических связей (ППВАС 8989/12 – безвозмездное изъятие в холдинге,  – ВАС РФ,  Постановление Президиума ВАС РФ от 11.02.2014 N 14510/13 -  основания выдачи поручительства - между участниками спорных правоотношений имелись определенные хозяйственные связи, обусловившие экономическую целесообразность заключения договоров поручительства, однако эти обстоятельства, имеющие существенное значение при рассмотрении спора, не были приняты во внимание)</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200" spc="-1" strike="noStrike">
                <a:solidFill>
                  <a:srgbClr val="336666"/>
                </a:solidFill>
                <a:latin typeface="Arial Black"/>
                <a:ea typeface="Arial"/>
              </a:rPr>
              <a:t>Понятие обязательства (ст. 366)</a:t>
            </a:r>
            <a:endParaRPr b="0" lang="ru-RU" sz="3200" spc="-1" strike="noStrike">
              <a:solidFill>
                <a:srgbClr val="000000"/>
              </a:solidFill>
              <a:latin typeface="Arial"/>
            </a:endParaRPr>
          </a:p>
        </p:txBody>
      </p:sp>
      <p:sp>
        <p:nvSpPr>
          <p:cNvPr id="20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Указание на пользу кредитор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исчерпывающий перечень действий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асширение этого перечня услугами и вкладом в совместную деятельность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95720" cy="303120"/>
          </a:xfrm>
          <a:prstGeom prst="rect">
            <a:avLst/>
          </a:prstGeom>
          <a:noFill/>
          <a:ln w="0">
            <a:noFill/>
          </a:ln>
        </p:spPr>
        <p:txBody>
          <a:bodyPr numCol="1" spcCol="0" anchor="b">
            <a:noAutofit/>
          </a:bodyPr>
          <a:p>
            <a:pPr indent="0">
              <a:lnSpc>
                <a:spcPct val="100000"/>
              </a:lnSpc>
              <a:buNone/>
            </a:pPr>
            <a:r>
              <a:rPr b="1" lang="ru-RU" sz="2400" spc="-1" strike="noStrike">
                <a:solidFill>
                  <a:srgbClr val="336666"/>
                </a:solidFill>
                <a:latin typeface="Arial Black"/>
                <a:ea typeface="Arial"/>
              </a:rPr>
              <a:t>Признаки обязательства</a:t>
            </a:r>
            <a:endParaRPr b="0" lang="ru-RU" sz="2400" spc="-1" strike="noStrike">
              <a:solidFill>
                <a:srgbClr val="000000"/>
              </a:solidFill>
              <a:latin typeface="Arial"/>
            </a:endParaRPr>
          </a:p>
        </p:txBody>
      </p:sp>
      <p:sp>
        <p:nvSpPr>
          <p:cNvPr id="206" name="PlaceHolder 2"/>
          <p:cNvSpPr>
            <a:spLocks noGrp="1"/>
          </p:cNvSpPr>
          <p:nvPr>
            <p:ph/>
          </p:nvPr>
        </p:nvSpPr>
        <p:spPr>
          <a:xfrm>
            <a:off x="403200" y="2070360"/>
            <a:ext cx="8229240" cy="4906440"/>
          </a:xfrm>
          <a:prstGeom prst="rect">
            <a:avLst/>
          </a:prstGeom>
          <a:noFill/>
          <a:ln w="0">
            <a:noFill/>
          </a:ln>
        </p:spPr>
        <p:txBody>
          <a:bodyPr numCol="1" spcCol="0" anchor="t">
            <a:noAutofit/>
          </a:bodyPr>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1) гражданско-правовой характер обязательства.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взаимосвязь с семейным, трудовым правом. Соотношение с публично-правовыми обязательствами. Моральный вред за нарушение публично-правовых прав.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2) имущественный характер</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3) относительность-   определенность субъектного состава обязательства;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4) динамичность, означающая, что с его исполнением оно непременно должно прекратиться</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рамочные договоры. Договор банковского счета, абонентские договоры);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5) направленность на перемещение (в том числе товарное)  имущества и иных результатов труда (польза кредитора, встречность);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6) повелительность содержания обязательства (сильная – слабая сторона, КРЕДИТОРСКИЕ ОБЯЗАННОСТИ)</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7) конкретизированность содержания обязательства (пример, законность, исполнимость, определенность – указания доверител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520"/>
            <a:ext cx="7695720" cy="639360"/>
          </a:xfrm>
          <a:prstGeom prst="rect">
            <a:avLst/>
          </a:prstGeom>
          <a:noFill/>
          <a:ln w="0">
            <a:noFill/>
          </a:ln>
        </p:spPr>
        <p:txBody>
          <a:bodyPr numCol="1" spcCol="0" anchor="b">
            <a:noAutofit/>
          </a:bodyPr>
          <a:p>
            <a:pPr indent="0" algn="ctr">
              <a:lnSpc>
                <a:spcPct val="100000"/>
              </a:lnSpc>
              <a:buNone/>
            </a:pPr>
            <a:r>
              <a:rPr b="1" lang="ru-RU" sz="1900" spc="-1" strike="noStrike">
                <a:solidFill>
                  <a:srgbClr val="336666"/>
                </a:solidFill>
                <a:latin typeface="Arial Black"/>
                <a:ea typeface="Arial"/>
              </a:rPr>
              <a:t>Понятие обязательства (ст. 366)</a:t>
            </a:r>
            <a:endParaRPr b="0" lang="ru-RU" sz="1900" spc="-1" strike="noStrike">
              <a:solidFill>
                <a:srgbClr val="000000"/>
              </a:solidFill>
              <a:latin typeface="Arial"/>
            </a:endParaRPr>
          </a:p>
        </p:txBody>
      </p:sp>
      <p:sp>
        <p:nvSpPr>
          <p:cNvPr id="208" name="PlaceHolder 2"/>
          <p:cNvSpPr>
            <a:spLocks noGrp="1"/>
          </p:cNvSpPr>
          <p:nvPr>
            <p:ph/>
          </p:nvPr>
        </p:nvSpPr>
        <p:spPr>
          <a:xfrm>
            <a:off x="457200" y="1772640"/>
            <a:ext cx="8229240" cy="4536000"/>
          </a:xfrm>
          <a:prstGeom prst="rect">
            <a:avLst/>
          </a:prstGeom>
          <a:noFill/>
          <a:ln w="0">
            <a:noFill/>
          </a:ln>
        </p:spPr>
        <p:txBody>
          <a:bodyPr numCol="1" spcCol="0" anchor="t">
            <a:noAutofit/>
          </a:bodyPr>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1) гражданско-правовой характер обязательства.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 </a:t>
            </a:r>
            <a:r>
              <a:rPr b="1" lang="ru-RU" sz="1800" spc="-1" strike="noStrike">
                <a:solidFill>
                  <a:srgbClr val="000000"/>
                </a:solidFill>
                <a:latin typeface="Arial"/>
                <a:ea typeface="Arial"/>
              </a:rPr>
              <a:t>взаимосвязь с семейным, трудовым правом. Соотношение с публично-правовыми обязательствами. Моральный вред за нарушение публично-правовых прав. 2) имущественный характе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3) относительность-   определенность субъектного состава обязательства;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4) динамичность, означающая, что с его исполнением оно непременно должно прекратиться</a:t>
            </a:r>
            <a:r>
              <a:rPr b="1" lang="en-US" sz="1800" spc="-1" strike="noStrike">
                <a:solidFill>
                  <a:srgbClr val="000000"/>
                </a:solidFill>
                <a:latin typeface="Arial"/>
                <a:ea typeface="Arial"/>
              </a:rPr>
              <a:t> (</a:t>
            </a:r>
            <a:r>
              <a:rPr b="1" lang="ru-RU" sz="1800" spc="-1" strike="noStrike">
                <a:solidFill>
                  <a:srgbClr val="000000"/>
                </a:solidFill>
                <a:latin typeface="Arial"/>
                <a:ea typeface="Arial"/>
              </a:rPr>
              <a:t>рамочные договоры. Договор банковского счета, абонентские договоры);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5) направленность на перемещение (в том числе товарное)  имущества и иных результатов труда (польза кредитора, встречность);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6) повелительность содержания обязательства (сильная – слабая сторона, КРЕДИТОРСКИЕ ОБЯЗАННОСТИ)</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7) конкретизированность содержания обязательства (пример, законность, исполнимость, определенность – указания доверителя).</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2900" spc="-1" strike="noStrike">
                <a:solidFill>
                  <a:srgbClr val="336666"/>
                </a:solidFill>
                <a:latin typeface="Arial Black"/>
                <a:ea typeface="Arial"/>
              </a:rPr>
              <a:t>Имущественный характер обязательства</a:t>
            </a:r>
            <a:endParaRPr b="0" lang="ru-RU" sz="2900" spc="-1" strike="noStrike">
              <a:solidFill>
                <a:srgbClr val="000000"/>
              </a:solidFill>
              <a:latin typeface="Arial"/>
            </a:endParaRPr>
          </a:p>
        </p:txBody>
      </p:sp>
      <p:sp>
        <p:nvSpPr>
          <p:cNvPr id="21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80000"/>
              </a:lnSpc>
              <a:spcBef>
                <a:spcPts val="541"/>
              </a:spcBef>
              <a:buNone/>
            </a:pP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Понятие имущества. Новеллы – сложный комплекс недвижимости, безналичные деньги, бездокументарные ценные бумаги (эквиваленты). </a:t>
            </a: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Имущественное право. Право на комиссию, на ведение счета, андерайтинг. Кредитная линия - «Плата за горячий чай». Пример с финансовым обеспечением </a:t>
            </a: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отрицательные обязательства</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Услуги – работы.</a:t>
            </a:r>
            <a:endParaRPr b="0" lang="ru-RU" sz="3300" spc="-1" strike="noStrike">
              <a:solidFill>
                <a:srgbClr val="000000"/>
              </a:solidFill>
              <a:latin typeface="Arial"/>
            </a:endParaRPr>
          </a:p>
        </p:txBody>
      </p:sp>
      <p:sp>
        <p:nvSpPr>
          <p:cNvPr id="21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казание услуг – результат работ.</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Безвозмездные услуги Неимущественные обязательств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о услуг (требование к субъекту, порядку оказания, отсутствие вред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Качество правовых услуг</a:t>
            </a:r>
            <a:endParaRPr b="0" lang="ru-RU" sz="3300" spc="-1" strike="noStrike">
              <a:solidFill>
                <a:srgbClr val="000000"/>
              </a:solidFill>
              <a:latin typeface="Arial"/>
            </a:endParaRPr>
          </a:p>
        </p:txBody>
      </p:sp>
      <p:sp>
        <p:nvSpPr>
          <p:cNvPr id="214" name="PlaceHolder 2"/>
          <p:cNvSpPr>
            <a:spLocks noGrp="1"/>
          </p:cNvSpPr>
          <p:nvPr>
            <p:ph/>
          </p:nvPr>
        </p:nvSpPr>
        <p:spPr>
          <a:xfrm>
            <a:off x="497520" y="16765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Гонорар успеха  </a:t>
            </a:r>
            <a:r>
              <a:rPr b="0" lang="ru-RU" sz="1600" spc="-1" strike="noStrike" u="sng">
                <a:solidFill>
                  <a:srgbClr val="99cc00"/>
                </a:solidFill>
                <a:uFillTx/>
                <a:latin typeface="Arial"/>
                <a:ea typeface="Arial"/>
                <a:hlinkClick r:id="rId1"/>
              </a:rPr>
              <a:t>Постановление</a:t>
            </a:r>
            <a:r>
              <a:rPr b="0" lang="ru-RU" sz="1600" spc="-1" strike="noStrike">
                <a:solidFill>
                  <a:srgbClr val="000000"/>
                </a:solidFill>
                <a:latin typeface="Arial"/>
                <a:ea typeface="Arial"/>
              </a:rPr>
              <a:t> КС РФ от 23.01.2007 N 1-П (см. особое мнение судьи Гаджиева, также - </a:t>
            </a:r>
            <a:r>
              <a:rPr b="0" lang="ru-RU" sz="1600" spc="-1" strike="noStrike" u="sng">
                <a:solidFill>
                  <a:srgbClr val="99cc00"/>
                </a:solidFill>
                <a:uFillTx/>
                <a:latin typeface="Arial"/>
                <a:ea typeface="Arial"/>
                <a:hlinkClick r:id="rId2"/>
              </a:rPr>
              <a:t>п. 6 Информационного письма</a:t>
            </a:r>
            <a:r>
              <a:rPr b="0" lang="ru-RU" sz="1600" spc="-1" strike="noStrike">
                <a:solidFill>
                  <a:srgbClr val="000000"/>
                </a:solidFill>
                <a:latin typeface="Arial"/>
                <a:ea typeface="Arial"/>
              </a:rPr>
              <a:t> Президиума ВАС РФ от 5 декабря 2007 г. № 121 "гонорар успеха" взыскивается с проигравшей стороны, но только </a:t>
            </a:r>
            <a:r>
              <a:rPr b="1" lang="ru-RU" sz="1600" spc="-1" strike="noStrike">
                <a:solidFill>
                  <a:srgbClr val="000000"/>
                </a:solidFill>
                <a:latin typeface="Arial"/>
                <a:ea typeface="Arial"/>
              </a:rPr>
              <a:t>в разумных пределах (проблема суд.расходов – «убыточная теория»)</a:t>
            </a:r>
            <a:r>
              <a:rPr b="0" lang="ru-RU" sz="1600" spc="-1" strike="noStrike">
                <a:solidFill>
                  <a:srgbClr val="000000"/>
                </a:solidFill>
                <a:latin typeface="Arial"/>
                <a:ea typeface="Arial"/>
              </a:rPr>
              <a:t>. ФАС Волго-Вятского округа посчитал, что проигравшая сторона должна возместить даже </a:t>
            </a:r>
            <a:r>
              <a:rPr b="1" lang="ru-RU" sz="1600" spc="-1" strike="noStrike">
                <a:solidFill>
                  <a:srgbClr val="000000"/>
                </a:solidFill>
                <a:latin typeface="Arial"/>
                <a:ea typeface="Arial"/>
              </a:rPr>
              <a:t>расходы юриста на такси</a:t>
            </a:r>
            <a:r>
              <a:rPr b="0" lang="ru-RU" sz="1600" spc="-1" strike="noStrike">
                <a:solidFill>
                  <a:srgbClr val="000000"/>
                </a:solidFill>
                <a:latin typeface="Arial"/>
                <a:ea typeface="Arial"/>
              </a:rPr>
              <a:t> к месту заседания (</a:t>
            </a:r>
            <a:r>
              <a:rPr b="0" lang="ru-RU" sz="1600" spc="-1" strike="noStrike" u="sng">
                <a:solidFill>
                  <a:srgbClr val="99cc00"/>
                </a:solidFill>
                <a:uFillTx/>
                <a:latin typeface="Arial"/>
                <a:ea typeface="Arial"/>
                <a:hlinkClick r:id="rId3"/>
              </a:rPr>
              <a:t>постановление</a:t>
            </a:r>
            <a:r>
              <a:rPr b="0" lang="ru-RU" sz="1600" spc="-1" strike="noStrike">
                <a:solidFill>
                  <a:srgbClr val="000000"/>
                </a:solidFill>
                <a:latin typeface="Arial"/>
                <a:ea typeface="Arial"/>
              </a:rPr>
              <a:t> ФАС Волго-Вятского округа № Ф01-1175/14 от 8 мая 2014 г. по делу № А29-8443/2011)!!!</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u="sng">
                <a:solidFill>
                  <a:srgbClr val="99cc00"/>
                </a:solidFill>
                <a:uFillTx/>
                <a:latin typeface="Arial"/>
                <a:ea typeface="Arial"/>
                <a:hlinkClick r:id="rId4"/>
              </a:rPr>
              <a:t>Определение</a:t>
            </a:r>
            <a:r>
              <a:rPr b="0" lang="ru-RU" sz="1600" spc="-1" strike="noStrike">
                <a:solidFill>
                  <a:srgbClr val="000000"/>
                </a:solidFill>
                <a:latin typeface="Arial"/>
                <a:ea typeface="Arial"/>
              </a:rPr>
              <a:t> ВАС РФ от 24 июня 2013 г. № ВАС-12252/11 - судьи фактически подтвердили </a:t>
            </a:r>
            <a:r>
              <a:rPr b="1" lang="ru-RU" sz="1600" spc="-1" strike="noStrike">
                <a:solidFill>
                  <a:srgbClr val="000000"/>
                </a:solidFill>
                <a:latin typeface="Arial"/>
                <a:ea typeface="Arial"/>
              </a:rPr>
              <a:t>законность взыскания условного гонорара</a:t>
            </a:r>
            <a:r>
              <a:rPr b="0" lang="ru-RU" sz="1600" spc="-1" strike="noStrike">
                <a:solidFill>
                  <a:srgbClr val="000000"/>
                </a:solidFill>
                <a:latin typeface="Arial"/>
                <a:ea typeface="Arial"/>
              </a:rPr>
              <a:t> – его размер был определен как 10% от суммы взысканных с ответчика убытков и 6,5% от суммы присужденного по делу </a:t>
            </a:r>
            <a:br>
              <a:rPr sz="1600"/>
            </a:br>
            <a:r>
              <a:rPr b="0" lang="ru-RU" sz="1600" spc="-1" strike="noStrike">
                <a:solidFill>
                  <a:srgbClr val="000000"/>
                </a:solidFill>
                <a:latin typeface="Arial"/>
              </a:rPr>
              <a:t>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Соответственно, если исполнитель правовой услуги не достиг желаемого результата, заключающегося, например, в положительном решении суда, в силу того, что заказчик не представил нужные документы в силу некачественной предварительной консультации, то услугу можно признать некачественной (апелляционное определение Московского городского суда от 4 февраля 2014 г. по делу N 33-589).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sk-SK" sz="1600" spc="-1" strike="noStrike">
                <a:solidFill>
                  <a:srgbClr val="000000"/>
                </a:solidFill>
                <a:latin typeface="Arial"/>
                <a:ea typeface="Arial"/>
              </a:rPr>
              <a:t>Постановление Президиума ВАС РФ от 24.09.2013 No 4593/13 по делу No А41-7649/2012 </a:t>
            </a:r>
            <a:r>
              <a:rPr b="0" lang="ru-RU" sz="1600" spc="-1" strike="noStrike">
                <a:solidFill>
                  <a:srgbClr val="000000"/>
                </a:solidFill>
                <a:latin typeface="Arial"/>
                <a:ea typeface="Arial"/>
              </a:rPr>
              <a:t> - юристы не учли изменений в законодательстве </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Субъекты обязательства</a:t>
            </a:r>
            <a:endParaRPr b="0" lang="ru-RU" sz="3300" spc="-1" strike="noStrike">
              <a:solidFill>
                <a:srgbClr val="000000"/>
              </a:solidFill>
              <a:latin typeface="Arial"/>
            </a:endParaRPr>
          </a:p>
        </p:txBody>
      </p:sp>
      <p:sp>
        <p:nvSpPr>
          <p:cNvPr id="216" name="PlaceHolder 2"/>
          <p:cNvSpPr>
            <a:spLocks noGrp="1"/>
          </p:cNvSpPr>
          <p:nvPr>
            <p:ph/>
          </p:nvPr>
        </p:nvSpPr>
        <p:spPr>
          <a:xfrm>
            <a:off x="762120" y="1942920"/>
            <a:ext cx="7695720" cy="4038120"/>
          </a:xfrm>
          <a:prstGeom prst="rect">
            <a:avLst/>
          </a:prstGeom>
          <a:noFill/>
          <a:ln w="0">
            <a:noFill/>
          </a:ln>
        </p:spPr>
        <p:txBody>
          <a:bodyPr numCol="1" spcCol="0" anchor="t">
            <a:noAutofit/>
          </a:bodyPr>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Только две стороны </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Возможна множественность лиц (ст. 389-390 ГК ДНР)</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На стадии исполнения возможно участие третьих лиц</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О произвольности статуса "правопреемника" –  </a:t>
            </a:r>
            <a:r>
              <a:rPr b="0" lang="ru-RU" sz="1800" spc="-1" strike="noStrike">
                <a:solidFill>
                  <a:srgbClr val="000000"/>
                </a:solidFill>
                <a:latin typeface="Arial"/>
                <a:ea typeface="Arial"/>
              </a:rPr>
              <a:t>правовой статус семьи военнослужащего, погибшего при исполнении воинского долга (умершего вследствие увечья, ранения, травмы, контузии, полученных при исполнении обязанностей военной службы), произволен от правового статуса военнослужащего и обусловлен спецификой его профессиональной деятельности, федеральный законодатель предусмотрел также особый правовой механизм возмещения вреда, причиненного в связи со смертью кормильца, для членов семей погибших (умерших) военнослужащих.</a:t>
            </a:r>
            <a:endParaRPr b="0" lang="ru-RU" sz="1800" spc="-1" strike="noStrike">
              <a:solidFill>
                <a:srgbClr val="000000"/>
              </a:solidFill>
              <a:latin typeface="Arial"/>
            </a:endParaRPr>
          </a:p>
          <a:p>
            <a:pPr indent="0">
              <a:lnSpc>
                <a:spcPct val="100000"/>
              </a:lnSpc>
              <a:spcBef>
                <a:spcPts val="420"/>
              </a:spcBef>
              <a:buNone/>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Прямоугольник 1"/>
          <p:cNvSpPr/>
          <p:nvPr/>
        </p:nvSpPr>
        <p:spPr>
          <a:xfrm>
            <a:off x="966240" y="514800"/>
            <a:ext cx="75103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Arial"/>
                <a:ea typeface="Arial"/>
              </a:rPr>
              <a:t>Общая характеристика обязательства</a:t>
            </a:r>
            <a:endParaRPr b="0" lang="en-US" sz="3600" spc="-1" strike="noStrike">
              <a:solidFill>
                <a:srgbClr val="000000"/>
              </a:solidFill>
              <a:latin typeface="Arial"/>
            </a:endParaRPr>
          </a:p>
          <a:p>
            <a:pPr>
              <a:lnSpc>
                <a:spcPct val="100000"/>
              </a:lnSpc>
            </a:pPr>
            <a:r>
              <a:rPr b="0" lang="ru-RU" sz="3600" spc="-1" strike="noStrike">
                <a:solidFill>
                  <a:srgbClr val="000000"/>
                </a:solidFill>
                <a:latin typeface="Arial"/>
                <a:ea typeface="Arial"/>
              </a:rPr>
              <a:t>Понятие обязательства. Признаки обязательства. Разграничение обязательств и смежных правоотношен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пределенность субъектного состава</a:t>
            </a:r>
            <a:endParaRPr b="0" lang="ru-RU" sz="2900" spc="-1" strike="noStrike">
              <a:solidFill>
                <a:srgbClr val="000000"/>
              </a:solidFill>
              <a:latin typeface="Arial"/>
            </a:endParaRPr>
          </a:p>
        </p:txBody>
      </p:sp>
      <p:sp>
        <p:nvSpPr>
          <p:cNvPr id="218" name="PlaceHolder 2"/>
          <p:cNvSpPr>
            <a:spLocks noGrp="1"/>
          </p:cNvSpPr>
          <p:nvPr>
            <p:ph/>
          </p:nvPr>
        </p:nvSpPr>
        <p:spPr>
          <a:xfrm>
            <a:off x="370800" y="1676520"/>
            <a:ext cx="7695720" cy="4038120"/>
          </a:xfrm>
          <a:prstGeom prst="rect">
            <a:avLst/>
          </a:prstGeom>
          <a:noFill/>
          <a:ln w="0">
            <a:noFill/>
          </a:ln>
        </p:spPr>
        <p:txBody>
          <a:bodyPr numCol="1" spcCol="0" anchor="t">
            <a:noAutofit/>
          </a:bodyPr>
          <a:p>
            <a:pPr marL="343080" indent="-343080">
              <a:lnSpc>
                <a:spcPct val="8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Корпоративная вуаль. Сенаторов ОПРЕДЕЛЕНИЕ от 18 июня 2013 г. N 5-КГ13-61  .Истец просил взыскать указанную выше задолженность по уплате неустойки по договору от 17 июля 2008 г. и в счет погашения всей суммы задолженности ответчика перед истцом обратить взыскание на объекты недвижимого имущества и имущественные права ООО "ОПТИМА", ООО "ИНГЕОКОМ МСФ", ООО "ИГК Холдинг", ООО "Форестдейл", ЗАО "Центурион", ООО "Эспрессо-Центр", ООО "Партнер Контакт", ссылаясь на то, что Сенаторов А.Г., как </a:t>
            </a:r>
            <a:r>
              <a:rPr b="0" lang="ru-RU" sz="1900" spc="-1" strike="noStrike" u="sng">
                <a:solidFill>
                  <a:srgbClr val="000000"/>
                </a:solidFill>
                <a:uFillTx/>
                <a:latin typeface="Arial"/>
                <a:ea typeface="Arial"/>
              </a:rPr>
              <a:t>единственный участник обществ с ограниченной ответственностью и единственный акционер закрытого акционерного общества, является бенефициарным владельцем данного имущества.</a:t>
            </a:r>
            <a:endParaRPr b="0" lang="ru-RU" sz="1900" spc="-1" strike="noStrike">
              <a:solidFill>
                <a:srgbClr val="000000"/>
              </a:solidFill>
              <a:latin typeface="Arial"/>
            </a:endParaRPr>
          </a:p>
          <a:p>
            <a:pPr marL="343080" indent="-343080">
              <a:lnSpc>
                <a:spcPct val="10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Личный характер.П.22 проекта ППВС - Из существа денежного обязательства следует, что оно может быть исполнено третьим лицом и в том случае, когда его возникновение связано с личностью должника, например уплата долга по алиментам.</a:t>
            </a:r>
            <a:endParaRPr b="0" lang="ru-RU" sz="1900" spc="-1" strike="noStrike">
              <a:solidFill>
                <a:srgbClr val="000000"/>
              </a:solidFill>
              <a:latin typeface="Arial"/>
            </a:endParaRPr>
          </a:p>
          <a:p>
            <a:pPr marL="343080" indent="-343080">
              <a:lnSpc>
                <a:spcPct val="8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 </a:t>
            </a:r>
            <a:r>
              <a:rPr b="0" lang="ru-RU" sz="1900" spc="-1" strike="noStrike">
                <a:solidFill>
                  <a:srgbClr val="000000"/>
                </a:solidFill>
                <a:latin typeface="Arial"/>
                <a:ea typeface="Arial"/>
              </a:rPr>
              <a:t>Пример по ст. 605 ГК РФ.</a:t>
            </a: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Множественность лиц. </a:t>
            </a:r>
            <a:endParaRPr b="0" lang="ru-RU" sz="3300" spc="-1" strike="noStrike">
              <a:solidFill>
                <a:srgbClr val="000000"/>
              </a:solidFill>
              <a:latin typeface="Arial"/>
            </a:endParaRPr>
          </a:p>
        </p:txBody>
      </p:sp>
      <p:sp>
        <p:nvSpPr>
          <p:cNvPr id="22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отношение солидарной, долевой, субсидиарной</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2" name="PlaceHolder 2"/>
          <p:cNvSpPr>
            <a:spLocks noGrp="1"/>
          </p:cNvSpPr>
          <p:nvPr>
            <p:ph/>
          </p:nvPr>
        </p:nvSpPr>
        <p:spPr>
          <a:xfrm>
            <a:off x="457200" y="457200"/>
            <a:ext cx="8229240" cy="5668560"/>
          </a:xfrm>
          <a:prstGeom prst="rect">
            <a:avLst/>
          </a:prstGeom>
          <a:noFill/>
          <a:ln w="0">
            <a:noFill/>
          </a:ln>
        </p:spPr>
        <p:txBody>
          <a:bodyPr numCol="1" spcCol="0" anchor="t">
            <a:noAutofit/>
          </a:bodyPr>
          <a:p>
            <a:pPr indent="0">
              <a:lnSpc>
                <a:spcPct val="8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упруги как сособственники – сокредиторы, содолжники. </a:t>
            </a:r>
            <a:endParaRPr b="0" lang="ru-RU" sz="2000" spc="-1" strike="noStrike">
              <a:solidFill>
                <a:srgbClr val="000000"/>
              </a:solidFill>
              <a:latin typeface="Arial"/>
            </a:endParaRPr>
          </a:p>
          <a:p>
            <a:pPr indent="0">
              <a:lnSpc>
                <a:spcPct val="80000"/>
              </a:lnSpc>
              <a:spcBef>
                <a:spcPts val="400"/>
              </a:spcBef>
              <a:buNone/>
              <a:tabLst>
                <a:tab algn="l" pos="0"/>
              </a:tabLst>
            </a:pPr>
            <a:r>
              <a:rPr b="0" lang="ru-RU" sz="2000" spc="-1" strike="noStrike">
                <a:solidFill>
                  <a:srgbClr val="000000"/>
                </a:solidFill>
                <a:latin typeface="Arial"/>
                <a:ea typeface="Arial"/>
              </a:rPr>
              <a:t>ДОЛГИ – П.2 ст. 35 Семейного кодекса РФ, п. 2 ст. 253 Гражданского кодекса РФ установлена презумпция согласия супруга на действия другого супруга по распоряжению общим имуществом. Однако, положения о том, что такое согласие предполагается также в случае приобретения одним из супругов долговых обязательств, действующее законодательство не содержит. Напротив, в силу п. 1 ст. 45 Семейного кодекса РФ допускается существование у каждого из супругов собственных обязательств. Таким образом, в случае заключения одним из супругов договора займа или совершения иной сделки, связанной с возникновением долга, такой долг может быть признан общим лишь при наличии обстоятельств, вытекающих из п. 2 ст. 45 Семейного кодекса, бремя доказывания которых лежит на стороне, претендующей на распределение долга (см. например Апелляционные определения Московского областного  суда по делу №33-4473/2013, по делу №33-9430/2014, от 4 декабря 2012г. по делу №33-23836/12, Апелляционное определение Московского городского суда от 10 октября 2014г. по делу №33-24184,</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Супруга – не сторона договора поручительства – ОПРЕДЕЛЕНИЕ ВС РФ от 21 декабря 2010 г. N 16-В10-24. Ее доля в общем имуществе будет выделена при обращении взыскани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отношение ГК РФ и СК РФ при регулировании отношений лиц, фактически прекративших семейные отношения, бывших супругов</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9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язанности могут возникнуть в силу закона (ЗОПП) и из предварительного договора, поскольку гражданин имеет намерение….</a:t>
            </a:r>
            <a:r>
              <a:rPr b="1" lang="ru-RU" sz="3100" spc="-1" strike="noStrike">
                <a:solidFill>
                  <a:srgbClr val="000000"/>
                </a:solidFill>
                <a:latin typeface="Arial"/>
                <a:ea typeface="Arial"/>
              </a:rPr>
              <a:t> ОПРЕДЕЛЕНИЕ</a:t>
            </a:r>
            <a:endParaRPr b="0" lang="ru-RU" sz="3100" spc="-1" strike="noStrike">
              <a:solidFill>
                <a:srgbClr val="000000"/>
              </a:solidFill>
              <a:latin typeface="Arial"/>
            </a:endParaRPr>
          </a:p>
          <a:p>
            <a:pPr marL="343080" indent="-343080">
              <a:lnSpc>
                <a:spcPct val="90000"/>
              </a:lnSpc>
              <a:spcBef>
                <a:spcPts val="621"/>
              </a:spcBef>
              <a:buClr>
                <a:srgbClr val="cccc99"/>
              </a:buClr>
              <a:buSzPct val="70000"/>
              <a:buFont typeface="Wingdings" charset="2"/>
              <a:buChar char=""/>
            </a:pPr>
            <a:r>
              <a:rPr b="1" lang="ru-RU" sz="3100" spc="-1" strike="noStrike">
                <a:solidFill>
                  <a:srgbClr val="000000"/>
                </a:solidFill>
                <a:latin typeface="Arial"/>
                <a:ea typeface="Arial"/>
              </a:rPr>
              <a:t>от 9 декабря 2014 г. N 78-КГ14-29</a:t>
            </a:r>
            <a:endParaRPr b="0" lang="ru-RU" sz="3100" spc="-1" strike="noStrike">
              <a:solidFill>
                <a:srgbClr val="000000"/>
              </a:solidFill>
              <a:latin typeface="Arial"/>
            </a:endParaRPr>
          </a:p>
          <a:p>
            <a:pPr marL="343080" indent="-343080">
              <a:lnSpc>
                <a:spcPct val="9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едварительный договор не исполнен, получен кредит в валюте – в итоге курсовая разница расценена как убытки.</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Договор в пользу третьего лица</a:t>
            </a:r>
            <a:endParaRPr b="0" lang="ru-RU" sz="2900" spc="-1" strike="noStrike">
              <a:solidFill>
                <a:srgbClr val="000000"/>
              </a:solidFill>
              <a:latin typeface="Arial"/>
            </a:endParaRPr>
          </a:p>
        </p:txBody>
      </p:sp>
      <p:sp>
        <p:nvSpPr>
          <p:cNvPr id="22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ретьи лица. Номинальный счет и эскроу.</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формление покупки дома на другое лицо – не притворная сделка</a:t>
            </a:r>
            <a:endParaRPr b="0" lang="ru-RU" sz="3100" spc="-1" strike="noStrike">
              <a:solidFill>
                <a:srgbClr val="000000"/>
              </a:solidFill>
              <a:latin typeface="Arial"/>
            </a:endParaRPr>
          </a:p>
          <a:p>
            <a:pPr marL="343080" indent="0">
              <a:lnSpc>
                <a:spcPct val="100000"/>
              </a:lnSpc>
              <a:spcBef>
                <a:spcPts val="621"/>
              </a:spcBef>
              <a:buNone/>
              <a:tabLst>
                <a:tab algn="l" pos="0"/>
              </a:tabLst>
            </a:pPr>
            <a:r>
              <a:rPr b="1" lang="ru-RU" sz="3100" spc="-1" strike="noStrike">
                <a:solidFill>
                  <a:srgbClr val="000000"/>
                </a:solidFill>
                <a:latin typeface="Arial"/>
                <a:ea typeface="Arial"/>
              </a:rPr>
              <a:t>Определение Верховного Суда РФ от 22.12.2009 N 18-В09-80</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Цессия</a:t>
            </a:r>
            <a:endParaRPr b="0" lang="ru-RU" sz="3300" spc="-1" strike="noStrike">
              <a:solidFill>
                <a:srgbClr val="000000"/>
              </a:solidFill>
              <a:latin typeface="Arial"/>
            </a:endParaRPr>
          </a:p>
        </p:txBody>
      </p:sp>
      <p:sp>
        <p:nvSpPr>
          <p:cNvPr id="23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Изменения – соответствуют Конвенции УНИДРУА о международном факторинге, повторяют нормы о договоре финансирования под уступку денежного требования.</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Обязанность уведомить должника как кредиторская обязанность, и коллизия со ст. 408 ГК РФ.</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Договор цессии и п. 4 ст. 454 ГК РФ. Прекращает ли дополнительные обязанности решение суда?</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u="sng">
                <a:solidFill>
                  <a:srgbClr val="99cc00"/>
                </a:solidFill>
                <a:uFillTx/>
                <a:latin typeface="Arial"/>
                <a:ea typeface="Arial"/>
                <a:hlinkClick r:id="rId1"/>
              </a:rPr>
              <a:t>Определение № 18-КГ14-155</a:t>
            </a:r>
            <a:r>
              <a:rPr b="0" lang="ru-RU" sz="1300" spc="-1" strike="noStrike">
                <a:solidFill>
                  <a:srgbClr val="000000"/>
                </a:solidFill>
                <a:latin typeface="Arial"/>
                <a:ea typeface="Arial"/>
              </a:rPr>
              <a:t> -  нельзя расширительно толковать Постановление Пленума ВС РФ № 17</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Ранее в судебной практике сложилось два подхода к толкованию условия о праве на уступку.</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1) отсутствие установленных в кредитном договоре ограничений относительно круга лиц, которым может быть уступлено право, означает, что стороны этот круг не ограничивали и, следовательно, уступка допустима любому лицу, в том числе не имеющему лицензии (суды Новосибирской, Курганской, Омской, Кемеровской, Челябинской областей, Пермского и Алтайского краев, г. Москвы)</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2) Недостаточно предусмотреть в договоре право на уступку другому лицу, необходимо еще дополнительно довести до сведения потребителя то обстоятельство, что в качестве такого третьего лица может выступать в том числе небанковская организация. В противном случае условие считается несогласованным, что влечет за собой ничтожность цессии (в Красноярском и Забайкальском краях, Свердловской и Иркутской областях, Бурятии и Татарстане).</a:t>
            </a:r>
            <a:endParaRPr b="0" lang="ru-RU"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Исполнение обязательства</a:t>
            </a:r>
            <a:endParaRPr b="0" lang="ru-RU" sz="3300" spc="-1" strike="noStrike">
              <a:solidFill>
                <a:srgbClr val="000000"/>
              </a:solidFill>
              <a:latin typeface="Arial"/>
            </a:endParaRPr>
          </a:p>
        </p:txBody>
      </p:sp>
      <p:sp>
        <p:nvSpPr>
          <p:cNvPr id="23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отнесения исполнения обязательства к сделкам</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инципы исполнения обязательств </a:t>
            </a:r>
            <a:endParaRPr b="0" lang="ru-RU" sz="3300" spc="-1" strike="noStrike">
              <a:solidFill>
                <a:srgbClr val="000000"/>
              </a:solidFill>
              <a:latin typeface="Arial"/>
            </a:endParaRPr>
          </a:p>
        </p:txBody>
      </p:sp>
      <p:sp>
        <p:nvSpPr>
          <p:cNvPr id="23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длежащего исполн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еального исполн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возможности одностороннего отказа от обязательств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трудничества сторон и добросовестности (развитие положений п.3,4 ст. 1, ст. 507, п. 3 ст. 366 ГК, а также ст. 826, 858 ГК)</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адлежащее исполнение </a:t>
            </a:r>
            <a:endParaRPr b="0" lang="ru-RU" sz="3300" spc="-1" strike="noStrike">
              <a:solidFill>
                <a:srgbClr val="000000"/>
              </a:solidFill>
              <a:latin typeface="Arial"/>
            </a:endParaRPr>
          </a:p>
        </p:txBody>
      </p:sp>
      <p:sp>
        <p:nvSpPr>
          <p:cNvPr id="23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е субъекты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предмет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способ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срок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ее место исполнения обязательства. </a:t>
            </a: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000" spc="-1" strike="noStrike">
                <a:solidFill>
                  <a:srgbClr val="336666"/>
                </a:solidFill>
                <a:latin typeface="Arial Black"/>
                <a:ea typeface="Arial"/>
              </a:rPr>
              <a:t>Общая характеристика изменений обязательственного права</a:t>
            </a:r>
            <a:endParaRPr b="0" lang="ru-RU" sz="3000" spc="-1" strike="noStrike">
              <a:solidFill>
                <a:srgbClr val="000000"/>
              </a:solidFill>
              <a:latin typeface="Arial"/>
            </a:endParaRPr>
          </a:p>
        </p:txBody>
      </p:sp>
      <p:sp>
        <p:nvSpPr>
          <p:cNvPr id="18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ипы правопонимания и принцип добросовестности </a:t>
            </a:r>
            <a:r>
              <a:rPr b="0" lang="ru-RU" sz="1200" spc="-1" strike="noStrike">
                <a:solidFill>
                  <a:srgbClr val="000000"/>
                </a:solidFill>
                <a:latin typeface="Arial"/>
                <a:ea typeface="Arial"/>
              </a:rPr>
              <a:t>(дело № 2-5162/2012 - М-2682/2012)</a:t>
            </a:r>
            <a:endParaRPr b="0" lang="ru-RU" sz="1200" spc="-1" strike="noStrike">
              <a:solidFill>
                <a:srgbClr val="000000"/>
              </a:solidFill>
              <a:latin typeface="Arial"/>
            </a:endParaRPr>
          </a:p>
          <a:p>
            <a:pPr marL="343080" indent="0">
              <a:lnSpc>
                <a:spcPct val="100000"/>
              </a:lnSpc>
              <a:spcBef>
                <a:spcPts val="621"/>
              </a:spcBef>
              <a:buNone/>
              <a:tabLst>
                <a:tab algn="l" pos="0"/>
              </a:tabLst>
            </a:pPr>
            <a:r>
              <a:rPr b="0" lang="ru-RU" sz="3100" spc="-1" strike="noStrike">
                <a:solidFill>
                  <a:srgbClr val="000000"/>
                </a:solidFill>
                <a:latin typeface="Arial"/>
                <a:ea typeface="Arial"/>
              </a:rPr>
              <a:t>Основные векторы -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праведливость»</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вобода договор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охранение» договор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адлежащие субъекты </a:t>
            </a:r>
            <a:endParaRPr b="0" lang="ru-RU" sz="3300" spc="-1" strike="noStrike">
              <a:solidFill>
                <a:srgbClr val="000000"/>
              </a:solidFill>
              <a:latin typeface="Arial"/>
            </a:endParaRPr>
          </a:p>
        </p:txBody>
      </p:sp>
      <p:sp>
        <p:nvSpPr>
          <p:cNvPr id="23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меет значение для "личных" обязательст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извещений при цеси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ретьи лица</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Соглашение кредиторов </a:t>
            </a:r>
            <a:br>
              <a:rPr sz="3300"/>
            </a:br>
            <a:r>
              <a:rPr b="0" lang="ru-RU" sz="3300" spc="-1" strike="noStrike">
                <a:solidFill>
                  <a:srgbClr val="336666"/>
                </a:solidFill>
                <a:latin typeface="Arial Black"/>
                <a:ea typeface="Arial"/>
              </a:rPr>
              <a:t>(ст. 373)</a:t>
            </a:r>
            <a:endParaRPr b="0" lang="ru-RU" sz="3300" spc="-1" strike="noStrike">
              <a:solidFill>
                <a:srgbClr val="000000"/>
              </a:solidFill>
              <a:latin typeface="Arial"/>
            </a:endParaRPr>
          </a:p>
        </p:txBody>
      </p:sp>
      <p:sp>
        <p:nvSpPr>
          <p:cNvPr id="240" name="PlaceHolder 2"/>
          <p:cNvSpPr>
            <a:spLocks noGrp="1"/>
          </p:cNvSpPr>
          <p:nvPr>
            <p:ph/>
          </p:nvPr>
        </p:nvSpPr>
        <p:spPr>
          <a:xfrm>
            <a:off x="762120" y="1676520"/>
            <a:ext cx="8058240" cy="46324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Между ними координационные отношения как в простом товариществе.</a:t>
            </a:r>
            <a:endParaRPr b="0" lang="ru-RU" sz="31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и этом если из соглашения кредиторов не следует иное, к отношениям между кредиторами по передаче исполненного должником подлежат применению по аналогии закона положения абзаца первого статьи 1121, статей 1122, 1127–1129 ГК ДНР. Так, кредитор не отвечает перед другим кредитором за неисполнение или ненадлежащее исполнение обязательства должником. Кредитор обязан сообщить о неисполнении или ненадлежащем исполнении обязательства должником, собрать все необходимые доказательства, а также по требованию другого кредитора передать ему права по сделке с должником (пункт 1 статьи 6, статья 1122 ГК ДНР). Вместе с тем, если обязательство исполнено должником кредитору, последний отвечает перед другим кредитором за утрату, недостачу или повреждение имущества, полученного от должника (пункт 1 статьи 6, статья 1127 ГК ДНР).</a:t>
            </a:r>
            <a:endParaRPr b="0" lang="ru-RU" sz="16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Третьи лица в обязательстве</a:t>
            </a:r>
            <a:endParaRPr b="0" lang="ru-RU" sz="3300" spc="-1" strike="noStrike">
              <a:solidFill>
                <a:srgbClr val="000000"/>
              </a:solidFill>
              <a:latin typeface="Arial"/>
            </a:endParaRPr>
          </a:p>
        </p:txBody>
      </p:sp>
      <p:sp>
        <p:nvSpPr>
          <p:cNvPr id="242" name="PlaceHolder 2"/>
          <p:cNvSpPr>
            <a:spLocks noGrp="1"/>
          </p:cNvSpPr>
          <p:nvPr>
            <p:ph/>
          </p:nvPr>
        </p:nvSpPr>
        <p:spPr>
          <a:xfrm>
            <a:off x="395640" y="1905120"/>
            <a:ext cx="8568720" cy="43318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стороне кредитора при переадресации (ст. 377)</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стороне должника при возложении исполнения и иных случаях (ст. 378)</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третьих лиц нельзя возлагать обязанности    </a:t>
            </a:r>
            <a:endParaRPr b="0" lang="ru-RU" sz="31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При этом в установленных законом, иными правовыми актами или соглашением сторон случаях обязательство может создавать обязанность должника совершить определенное действие или воздержаться от него в отношении третьих лиц, создавать для третьих лиц права в отношении сторон обязательства .Кроме того, третьи лица могут своими действиями приобретать права и обязанности в обязательстве, например, в случаях, предусмотренных статьей 378 ГК РФ.</a:t>
            </a:r>
            <a:endParaRPr b="0" lang="ru-RU"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7 ГК ДНР </a:t>
            </a:r>
            <a:endParaRPr b="0" lang="ru-RU" sz="3300" spc="-1" strike="noStrike">
              <a:solidFill>
                <a:srgbClr val="000000"/>
              </a:solidFill>
              <a:latin typeface="Arial"/>
            </a:endParaRPr>
          </a:p>
        </p:txBody>
      </p:sp>
      <p:sp>
        <p:nvSpPr>
          <p:cNvPr id="244" name="PlaceHolder 2"/>
          <p:cNvSpPr>
            <a:spLocks noGrp="1"/>
          </p:cNvSpPr>
          <p:nvPr>
            <p:ph/>
          </p:nvPr>
        </p:nvSpPr>
        <p:spPr>
          <a:xfrm>
            <a:off x="762120" y="1905120"/>
            <a:ext cx="7842240" cy="425988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Оформление переадресации. Необходимость нотариальной доверенности</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лжник не считается просрочившим в случае отказа от исполнения обязательства до получения подтверждения того, что исполнение принимается надлежащим лицом (пункт 3 статьи 366, статья 510 ГК ДНР).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По смыслу пункта 2 статьи 377 ГК ДНР, право должника требовать от представителя кредитора подтверждения его полномочий, в том числе и доверенностью, удостоверенной нотариально, возникает тогда, когда исполнение принимается от имени представляемого лицом, действующим на основании письменного документа, а </a:t>
            </a:r>
            <a:r>
              <a:rPr b="0" lang="ru-RU" sz="1600" spc="-1" strike="noStrike" u="sng">
                <a:solidFill>
                  <a:srgbClr val="000000"/>
                </a:solidFill>
                <a:uFillTx/>
                <a:latin typeface="Arial"/>
                <a:ea typeface="Arial"/>
              </a:rPr>
              <a:t>письменное уполномочие не было представлено непосредственно кредитором должнику и не содержится в договоре между ними.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дусмотренное данной нормой право требования доверенности, удостоверенной нотариально, может быть исключено соглашением сторон только в случае, если между сторонами достигнута договоренность об ином способе, позволяющем должнику достоверно установить полномочия представителя кредитора.</a:t>
            </a:r>
            <a:endParaRPr b="0" lang="ru-RU" sz="1600" spc="-1" strike="noStrike">
              <a:solidFill>
                <a:srgbClr val="000000"/>
              </a:solidFill>
              <a:latin typeface="Arial"/>
            </a:endParaRPr>
          </a:p>
          <a:p>
            <a:pPr indent="0">
              <a:lnSpc>
                <a:spcPct val="100000"/>
              </a:lnSpc>
              <a:spcBef>
                <a:spcPts val="320"/>
              </a:spcBef>
              <a:buNone/>
            </a:pP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4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озложение. Это сделка. Проблема истребования кредитором  доказательств о возложени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Без возложения (при наличии права на имущество должника и при просрочке денежного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и действии в чужом интересе без поручения (глава 52 )</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48" name="PlaceHolder 2"/>
          <p:cNvSpPr>
            <a:spLocks noGrp="1"/>
          </p:cNvSpPr>
          <p:nvPr>
            <p:ph/>
          </p:nvPr>
        </p:nvSpPr>
        <p:spPr>
          <a:xfrm>
            <a:off x="395640" y="1905120"/>
            <a:ext cx="8208720" cy="4038120"/>
          </a:xfrm>
          <a:prstGeom prst="rect">
            <a:avLst/>
          </a:prstGeom>
          <a:noFill/>
          <a:ln w="0">
            <a:noFill/>
          </a:ln>
        </p:spPr>
        <p:txBody>
          <a:bodyPr numCol="1" spcCol="0" anchor="t">
            <a:noAutofit/>
          </a:bodyPr>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Проблема перехода прав кредитора к исполнившему обязательство третьему лицу </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На основании статьи 11 ГК ДНР суд может признать переход прав кредитора к третьему лицу несостоявшимся, если установит, что, исполняя обязательство за должника, третье лицо действовало недобросовестно, исключительно с намерением причинить вред кредитору или должнику по этому обязательству, например, в случаях, когда третье лицо погасило лишь основной долг должника с целью получения дополнительных голосов на собрании кредиторов при рассмотрении дела о банкротстве без несения дополнительных издержек на приобретение требований по финансовым санкциям, лишив кредитора права голосования. </a:t>
            </a:r>
            <a:endParaRPr b="0" lang="ru-RU" sz="2000" spc="-1" strike="noStrike">
              <a:solidFill>
                <a:srgbClr val="000000"/>
              </a:solidFill>
              <a:latin typeface="Arial"/>
            </a:endParaRPr>
          </a:p>
          <a:p>
            <a:pPr indent="0">
              <a:lnSpc>
                <a:spcPct val="100000"/>
              </a:lnSpc>
              <a:spcBef>
                <a:spcPts val="400"/>
              </a:spcBef>
              <a:buNone/>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50" name="PlaceHolder 2"/>
          <p:cNvSpPr>
            <a:spLocks noGrp="1"/>
          </p:cNvSpPr>
          <p:nvPr>
            <p:ph/>
          </p:nvPr>
        </p:nvSpPr>
        <p:spPr>
          <a:xfrm>
            <a:off x="539640" y="1905120"/>
            <a:ext cx="8064360" cy="4038120"/>
          </a:xfrm>
          <a:prstGeom prst="rect">
            <a:avLst/>
          </a:prstGeom>
          <a:noFill/>
          <a:ln w="0">
            <a:noFill/>
          </a:ln>
        </p:spPr>
        <p:txBody>
          <a:bodyPr numCol="1" spcCol="0" anchor="t">
            <a:noAutofit/>
          </a:bodyPr>
          <a:p>
            <a:pPr indent="0">
              <a:lnSpc>
                <a:spcPct val="100000"/>
              </a:lnSpc>
              <a:spcBef>
                <a:spcPts val="479"/>
              </a:spcBef>
              <a:buNone/>
              <a:tabLst>
                <a:tab algn="l" pos="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В случае, когда исполнение было возложено должником на третье лицо, за неисполнение или ненадлежащее исполнение обязательства этим третьим лицом перед кредитором отвечает должник (статья 504 ГК ДНР).</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Если третье лицо исполнило неденежную обязанность должника в отсутствии возложения, оно, а не должник, несет перед кредитором установленную для данного обязательства ответственность за недостатки такого исполнения (пункт 6 статьи 378 ГК ДНР). </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Глава 52</a:t>
            </a:r>
            <a:endParaRPr b="0" lang="ru-RU" sz="3300" spc="-1" strike="noStrike">
              <a:solidFill>
                <a:srgbClr val="000000"/>
              </a:solidFill>
              <a:latin typeface="Arial"/>
            </a:endParaRPr>
          </a:p>
        </p:txBody>
      </p:sp>
      <p:sp>
        <p:nvSpPr>
          <p:cNvPr id="252"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20"/>
              </a:spcBef>
              <a:buNone/>
              <a:tabLst>
                <a:tab algn="l" pos="0"/>
              </a:tabLst>
            </a:pPr>
            <a:r>
              <a:rPr b="0" lang="ru-RU" sz="1600" spc="-1" strike="noStrike">
                <a:solidFill>
                  <a:srgbClr val="000000"/>
                </a:solidFill>
                <a:latin typeface="Arial"/>
                <a:ea typeface="Arial"/>
              </a:rPr>
              <a:t>Отличие от норм ст. 378 ГК ДНР - здесь имеет место не переход права кредитора, а возмещение заинтересованным лицом (то есть должником) необходимых расходов и иного реального ущерба, понесенные лицом, действовавшим в чужом интересе (ст. 1113 ГК ДНР). Условия, когда допускается такое возмещение весьма жесткие: действия без поручения, иного указания или заранее обещанного согласия заинтересованного лица в целях предотвращения вреда его личности или имуществу, исполнения его обязательства или в его иных непротивоправных интересах (действия в чужом интересе) должны совершаться исходя из очевидной выгоды или пользы и действительных или вероятных намерений заинтересованного лица и с необходимой по обстоятельствам дела заботливостью и осмотрительностью (п. 1 ст. 1109 ГК ДНР)</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дмет исполнения</a:t>
            </a:r>
            <a:endParaRPr b="0" lang="ru-RU" sz="3300" spc="-1" strike="noStrike">
              <a:solidFill>
                <a:srgbClr val="000000"/>
              </a:solidFill>
              <a:latin typeface="Arial"/>
            </a:endParaRPr>
          </a:p>
        </p:txBody>
      </p:sp>
      <p:sp>
        <p:nvSpPr>
          <p:cNvPr id="254" name="PlaceHolder 2"/>
          <p:cNvSpPr>
            <a:spLocks noGrp="1"/>
          </p:cNvSpPr>
          <p:nvPr>
            <p:ph/>
          </p:nvPr>
        </p:nvSpPr>
        <p:spPr>
          <a:xfrm>
            <a:off x="762120" y="1676520"/>
            <a:ext cx="7761600" cy="42004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енные и количественные характеристики.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о услуг (требование к субъекту, порядку оказания, отсутствие вред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полнение однородных обязательст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Альтернативные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Факультативные обязательства</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дмет исполнения</a:t>
            </a:r>
            <a:endParaRPr b="0" lang="ru-RU" sz="3300" spc="-1" strike="noStrike">
              <a:solidFill>
                <a:srgbClr val="000000"/>
              </a:solidFill>
              <a:latin typeface="Arial"/>
            </a:endParaRPr>
          </a:p>
        </p:txBody>
      </p:sp>
      <p:sp>
        <p:nvSpPr>
          <p:cNvPr id="25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3300" spc="-1" strike="noStrike">
                <a:solidFill>
                  <a:srgbClr val="336666"/>
                </a:solidFill>
                <a:latin typeface="Arial Black"/>
                <a:ea typeface="Arial"/>
              </a:rPr>
              <a:t>Понятие добросовестности</a:t>
            </a:r>
            <a:endParaRPr b="0" lang="ru-RU" sz="3300" spc="-1" strike="noStrike">
              <a:solidFill>
                <a:srgbClr val="000000"/>
              </a:solidFill>
              <a:latin typeface="Arial"/>
            </a:endParaRPr>
          </a:p>
        </p:txBody>
      </p:sp>
      <p:sp>
        <p:nvSpPr>
          <p:cNvPr id="18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pP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росовестность в объективном смысл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росовестность в субъективном смысле</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Денежные обязательства</a:t>
            </a:r>
            <a:endParaRPr b="0" lang="ru-RU" sz="3300" spc="-1" strike="noStrike">
              <a:solidFill>
                <a:srgbClr val="000000"/>
              </a:solidFill>
              <a:latin typeface="Arial"/>
            </a:endParaRPr>
          </a:p>
        </p:txBody>
      </p:sp>
      <p:sp>
        <p:nvSpPr>
          <p:cNvPr id="25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алюта долг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алюта платеж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рок исполнения обязательств</a:t>
            </a:r>
            <a:endParaRPr b="0" lang="ru-RU" sz="3300" spc="-1" strike="noStrike">
              <a:solidFill>
                <a:srgbClr val="000000"/>
              </a:solidFill>
              <a:latin typeface="Arial"/>
            </a:endParaRPr>
          </a:p>
        </p:txBody>
      </p:sp>
      <p:sp>
        <p:nvSpPr>
          <p:cNvPr id="26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овеллы ст. 379. Исключение правила о разумном сроке в случае его неопределенност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полнение при взаимном обязательстве (ст. 397)</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условленное исполнение (ст. 326)</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Встречность в обязательстве (ст. 297)</a:t>
            </a:r>
            <a:endParaRPr b="0" lang="ru-RU" sz="3300" spc="-1" strike="noStrike">
              <a:solidFill>
                <a:srgbClr val="000000"/>
              </a:solidFill>
              <a:latin typeface="Arial"/>
            </a:endParaRPr>
          </a:p>
        </p:txBody>
      </p:sp>
      <p:sp>
        <p:nvSpPr>
          <p:cNvPr id="262" name="PlaceHolder 2"/>
          <p:cNvSpPr>
            <a:spLocks noGrp="1"/>
          </p:cNvSpPr>
          <p:nvPr>
            <p:ph/>
          </p:nvPr>
        </p:nvSpPr>
        <p:spPr>
          <a:xfrm>
            <a:off x="336600" y="1884600"/>
            <a:ext cx="8267760" cy="5679360"/>
          </a:xfrm>
          <a:prstGeom prst="rect">
            <a:avLst/>
          </a:prstGeom>
          <a:noFill/>
          <a:ln w="0">
            <a:noFill/>
          </a:ln>
        </p:spPr>
        <p:txBody>
          <a:bodyPr numCol="1" spcCol="0" anchor="t">
            <a:noAutofit/>
          </a:bodyPr>
          <a:p>
            <a:pPr indent="0">
              <a:lnSpc>
                <a:spcPct val="100000"/>
              </a:lnSpc>
              <a:spcBef>
                <a:spcPts val="241"/>
              </a:spcBef>
              <a:buNone/>
              <a:tabLst>
                <a:tab algn="l" pos="0"/>
              </a:tabLst>
            </a:pPr>
            <a:r>
              <a:rPr b="0" lang="ru-RU" sz="1200" spc="-1" strike="noStrike">
                <a:solidFill>
                  <a:srgbClr val="000000"/>
                </a:solidFill>
                <a:latin typeface="Arial"/>
                <a:ea typeface="Arial"/>
              </a:rPr>
              <a:t>Если иное не предусмотрено законом или договором, в случае непредоставления обязанной стороной исполнения обязательства либо при наличии обстоятельств, очевидно свидетельствующих о том, что такое исполнение не будет произведено в установленный срок, сторона, на которой лежит встречное исполнение, вправе приостановить исполнение своего обязательства или в соответствии со статьей 561 ГК ДНР отказаться от исполнения этого обязательства и потребовать возмещения убытков (пункт 2 статьи 397 ГК 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Сторона намеревающаяся приостановить исполнение своего обязательства или отказаться от его исполнения лишь на основании обстоятельств, очевидно свидетельствующих о том, что другая сторона не произведет исполнение в установленный срок, обязана в разумный срок предупредить последнюю об этом (пункт 3 статьи 366 ГК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66. Согласно пункту 3 статьи 397 ГК ДНР ни одна из сторон обязательства, по условиям которого предусмотрено встречное исполнение, не вправе требовать по суду от другой стороны исполнения в натуре, не предоставив причитающегося с нее по обязательству другой стороне.  Однако такое право соответствующей стороны  может быть установлено законом, договором или вытекать из существа обязательства (пункт 4 статьи 397 ГК ДНР). Вместе с тем кредитор не лишен возможности требовать возмещения убытков, причиненных неисполнением или ненадлежащим исполнением, в соответствии с условиями обязательства (статьи 16, 493, 497 ГК 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Если иное не установлено ГК ДНР, иными законами или договором, в случае, когда должник не может исполнить своего обязательства до того, как кредитор совершит действия, предусмотренные законом, иными правовыми актами или договором либо вытекающие из обычаев или существа обязательства, применению подлежат положения статей  506, 507 ГК ДНР. Правила статьи  397 ГК ДНР в таком случае применению не подлежат.</a:t>
            </a:r>
            <a:endParaRPr b="0" lang="ru-RU" sz="1200" spc="-1" strike="noStrike">
              <a:solidFill>
                <a:srgbClr val="000000"/>
              </a:solidFill>
              <a:latin typeface="Arial"/>
            </a:endParaRPr>
          </a:p>
          <a:p>
            <a:pPr indent="0">
              <a:lnSpc>
                <a:spcPct val="100000"/>
              </a:lnSpc>
              <a:spcBef>
                <a:spcPts val="241"/>
              </a:spcBef>
              <a:buNone/>
              <a:tabLst>
                <a:tab algn="l" pos="0"/>
              </a:tabLst>
            </a:pPr>
            <a:endParaRPr b="0" lang="ru-RU"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Место исполнения (ст. 381)</a:t>
            </a:r>
            <a:endParaRPr b="0" lang="ru-RU" sz="3300" spc="-1" strike="noStrike">
              <a:solidFill>
                <a:srgbClr val="000000"/>
              </a:solidFill>
              <a:latin typeface="Arial"/>
            </a:endParaRPr>
          </a:p>
        </p:txBody>
      </p:sp>
      <p:sp>
        <p:nvSpPr>
          <p:cNvPr id="264" name="PlaceHolder 2"/>
          <p:cNvSpPr>
            <a:spLocks noGrp="1"/>
          </p:cNvSpPr>
          <p:nvPr>
            <p:ph/>
          </p:nvPr>
        </p:nvSpPr>
        <p:spPr>
          <a:xfrm>
            <a:off x="611640" y="1905120"/>
            <a:ext cx="8136720" cy="4259880"/>
          </a:xfrm>
          <a:prstGeom prst="rect">
            <a:avLst/>
          </a:prstGeom>
          <a:noFill/>
          <a:ln w="0">
            <a:noFill/>
          </a:ln>
        </p:spPr>
        <p:txBody>
          <a:bodyPr numCol="1" spcCol="0" anchor="t">
            <a:noAutofit/>
          </a:bodyPr>
          <a:p>
            <a:pPr indent="0">
              <a:lnSpc>
                <a:spcPct val="100000"/>
              </a:lnSpc>
              <a:spcBef>
                <a:spcPts val="420"/>
              </a:spcBef>
              <a:buNone/>
              <a:tabLst>
                <a:tab algn="l" pos="0"/>
              </a:tabLst>
            </a:pPr>
            <a:r>
              <a:rPr b="0" lang="ru-RU" sz="2100" spc="-1" strike="noStrike">
                <a:solidFill>
                  <a:srgbClr val="000000"/>
                </a:solidFill>
                <a:latin typeface="Arial"/>
                <a:ea typeface="Arial"/>
              </a:rPr>
              <a:t>По смыслу пункта 1 статьи 381 ГК ДНР по денежным обязательствам, исполняемым путем безналичных расчетов, местом исполнения обязательства является место нахождения банка, обслуживающего кредитора (получателя средств). При этом моментом исполнения денежного обязательства является зачисление денежных средств на корреспондентский счет банка, обслуживающего кредитора, либо банка, который является кредитором.</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tabLst>
                <a:tab algn="l" pos="0"/>
              </a:tabLst>
            </a:pPr>
            <a:r>
              <a:rPr b="0" lang="ru-RU" sz="2100" spc="-1" strike="noStrike">
                <a:solidFill>
                  <a:srgbClr val="000000"/>
                </a:solidFill>
                <a:latin typeface="Arial"/>
                <a:ea typeface="Arial"/>
              </a:rPr>
              <a:t>Если должника и кредитора по обязательству, исполняемому путем безналичных расчетов, обслуживает один и тот же банк, моментом исполнения такого обязательства является зачисление банком денежных средств на счет кредитора.</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Реальное исполнение обязательства</a:t>
            </a:r>
            <a:endParaRPr b="0" lang="ru-RU" sz="3300" spc="-1" strike="noStrike">
              <a:solidFill>
                <a:srgbClr val="000000"/>
              </a:solidFill>
              <a:latin typeface="Arial"/>
            </a:endParaRPr>
          </a:p>
        </p:txBody>
      </p:sp>
      <p:sp>
        <p:nvSpPr>
          <p:cNvPr id="26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т. 369 – доступность иска об исполнении обязательства в натур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ключения</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удебная неустойк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допустимость отказа от обязательства </a:t>
            </a:r>
            <a:endParaRPr b="0" lang="ru-RU" sz="3300" spc="-1" strike="noStrike">
              <a:solidFill>
                <a:srgbClr val="000000"/>
              </a:solidFill>
              <a:latin typeface="Arial"/>
            </a:endParaRPr>
          </a:p>
        </p:txBody>
      </p:sp>
      <p:sp>
        <p:nvSpPr>
          <p:cNvPr id="268" name="PlaceHolder 2"/>
          <p:cNvSpPr>
            <a:spLocks noGrp="1"/>
          </p:cNvSpPr>
          <p:nvPr>
            <p:ph/>
          </p:nvPr>
        </p:nvSpPr>
        <p:spPr>
          <a:xfrm>
            <a:off x="762120" y="1676520"/>
            <a:ext cx="7695720" cy="4038120"/>
          </a:xfrm>
          <a:prstGeom prst="rect">
            <a:avLst/>
          </a:prstGeom>
          <a:noFill/>
          <a:ln w="0">
            <a:noFill/>
          </a:ln>
        </p:spPr>
        <p:txBody>
          <a:bodyPr numCol="1" spcCol="0" anchor="t">
            <a:noAutofit/>
          </a:bodyPr>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Учёт правового статуса участников обязательства </a:t>
            </a:r>
            <a:endParaRPr b="0" lang="ru-RU" sz="2100" spc="-1" strike="noStrike">
              <a:solidFill>
                <a:srgbClr val="000000"/>
              </a:solidFill>
              <a:latin typeface="Arial"/>
            </a:endParaRPr>
          </a:p>
          <a:p>
            <a:pPr indent="0">
              <a:lnSpc>
                <a:spcPct val="100000"/>
              </a:lnSpc>
              <a:spcBef>
                <a:spcPts val="420"/>
              </a:spcBef>
              <a:buNone/>
              <a:tabLst>
                <a:tab algn="l" pos="0"/>
              </a:tabLst>
            </a:pPr>
            <a:r>
              <a:rPr b="0" lang="ru-RU" sz="2100" spc="-1" strike="noStrike">
                <a:solidFill>
                  <a:srgbClr val="000000"/>
                </a:solidFill>
                <a:latin typeface="Arial"/>
                <a:ea typeface="Arial"/>
              </a:rPr>
              <a:t>Из системного толкования пунктов 1 и 2 статьи 310 ГК РФ следует, что право на одностороннее изменение условий обязательства или право на односторонний отказ от его исполнения может быть установлено также соглашением лиц, не осуществляющих предпринимательскую деятельность в отношениях между ними (пункт 4 статьи 421 ГК РФ). Например, договором аренды нежилого помещения, заключенного двумя гражданами, не осуществляющими предпринимательскую деятельность, может предусматриваться право как одной из его сторон, так и каждой из них отказаться от исполнения обязательства, предупредив другую сторону в разумный срок о прекращении договора.</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т 310 и глава 29</a:t>
            </a:r>
            <a:endParaRPr b="0" lang="ru-RU" sz="3300" spc="-1" strike="noStrike">
              <a:solidFill>
                <a:srgbClr val="000000"/>
              </a:solidFill>
              <a:latin typeface="Arial"/>
            </a:endParaRPr>
          </a:p>
        </p:txBody>
      </p:sp>
      <p:sp>
        <p:nvSpPr>
          <p:cNvPr id="27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00"/>
              </a:spcBef>
              <a:buNone/>
              <a:tabLst>
                <a:tab algn="l" pos="0"/>
              </a:tabLst>
            </a:pPr>
            <a:r>
              <a:rPr b="0" lang="ru-RU" sz="1500" spc="-1" strike="noStrike">
                <a:solidFill>
                  <a:srgbClr val="000000"/>
                </a:solidFill>
                <a:latin typeface="Arial"/>
                <a:ea typeface="Arial"/>
              </a:rPr>
              <a:t> </a:t>
            </a:r>
            <a:r>
              <a:rPr b="0" lang="ru-RU" sz="1500" spc="-1" strike="noStrike">
                <a:solidFill>
                  <a:srgbClr val="000000"/>
                </a:solidFill>
                <a:latin typeface="Arial"/>
                <a:ea typeface="Arial"/>
              </a:rPr>
              <a:t>Исходя из субсидиарного применения общих положений об обязательствах к обязательствам, возникшим из договора (пункт 1 статьи 3071 ГК РФ), общими правилами о договоре могут быть установлены иные правила о возможности предоставления договором права на отказ от исполнения обязательства или одностороннее изменение его условий.</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Так, например, в обязательстве из публичного договора, заключенного лицами, осуществляющими предпринимательскую деятельность, право на односторонний отказ от исполнения обязательства может быть предоставлено договором только той стороне, для которой заключение этого договора не было обязательным (пункт 1 статьи 6, пункт 2 статьи 310, статья 426 ГК РФ).</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Кроме того, право на односторонний отказ от договора может быть предусмотрено правилами об отдельных видах договоров.</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 частности, право на односторонний отказ от договора предоставлено заказчику по договору подряда (статья 717 ГК РФ), сторонам договора возмездного оказания услуг (статья 782 ГК РФ), договора транспортной экспедиции (статья 806 ГК РФ), агентского договора, заключенного без определения срока окончания его действия (статья 1010 ГК РФ), договора доверительного управления имуществом (пункт 1 статьи 1024 ГК РФ). </a:t>
            </a:r>
            <a:endParaRPr b="0" lang="ru-RU" sz="1500" spc="-1" strike="noStrike">
              <a:solidFill>
                <a:srgbClr val="000000"/>
              </a:solidFill>
              <a:latin typeface="Arial"/>
            </a:endParaRPr>
          </a:p>
          <a:p>
            <a:pPr indent="0">
              <a:lnSpc>
                <a:spcPct val="100000"/>
              </a:lnSpc>
              <a:spcBef>
                <a:spcPts val="300"/>
              </a:spcBef>
              <a:buNone/>
              <a:tabLst>
                <a:tab algn="l" pos="0"/>
              </a:tabLst>
            </a:pP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лата от отказ</a:t>
            </a:r>
            <a:endParaRPr b="0" lang="ru-RU" sz="3300" spc="-1" strike="noStrike">
              <a:solidFill>
                <a:srgbClr val="000000"/>
              </a:solidFill>
              <a:latin typeface="Arial"/>
            </a:endParaRPr>
          </a:p>
        </p:txBody>
      </p:sp>
      <p:sp>
        <p:nvSpPr>
          <p:cNvPr id="27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В исключительном случае размер подлежащей выплате денежной суммы (пункт 3 статьи 310 ГК РФ) может быть снижен судом, если обязанной стороной, заявившей о таком снижении, будет доказано его очевидное несоответствие неблагоприятным последствиям, вызванным отказом от исполнения обязательства или изменением его условий, а также будет установлено заведомо недобросовестное осуществление права требовать такую денежную сумму в этом размере (пункт 4 статьи 1 ГК РФ).</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отрудничество и добросовестность</a:t>
            </a:r>
            <a:endParaRPr b="0" lang="ru-RU" sz="3300" spc="-1" strike="noStrike">
              <a:solidFill>
                <a:srgbClr val="000000"/>
              </a:solidFill>
              <a:latin typeface="Arial"/>
            </a:endParaRPr>
          </a:p>
        </p:txBody>
      </p:sp>
      <p:sp>
        <p:nvSpPr>
          <p:cNvPr id="27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Кредиторские обязанности ( ст. 406)</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Согласно пункту 3 статьи 307 ГК РФ сторона обязательства должна не только надлежаще исполнить обязанности, которые прямо выражены в законе или договоре, но и действовать добросовестно, в том числе, после исполнения обязательства полностью или в части. Например, продавец акций должен возместить покупателю убытки, если доказано, что после исполнения договора купли-продажи продавец намеренно совершал действия, направленные на удешевление проданных акций.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беспечение исполнения обязательств</a:t>
            </a:r>
            <a:endParaRPr b="0" lang="ru-RU" sz="2900" spc="-1" strike="noStrike">
              <a:solidFill>
                <a:srgbClr val="000000"/>
              </a:solidFill>
              <a:latin typeface="Arial"/>
            </a:endParaRPr>
          </a:p>
        </p:txBody>
      </p:sp>
      <p:sp>
        <p:nvSpPr>
          <p:cNvPr id="27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цель – </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1) Стимулирование – до правонарушения</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 </a:t>
            </a:r>
            <a:r>
              <a:rPr b="0" lang="ru-RU" sz="3100" spc="-1" strike="noStrike">
                <a:solidFill>
                  <a:srgbClr val="000000"/>
                </a:solidFill>
                <a:latin typeface="Arial"/>
                <a:ea typeface="Arial"/>
              </a:rPr>
              <a:t>2) создание дополнительных гарантий, источников удовлетворения требования кредитор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900" spc="-1" strike="noStrike">
                <a:solidFill>
                  <a:srgbClr val="336666"/>
                </a:solidFill>
                <a:latin typeface="Arial Black"/>
                <a:ea typeface="Arial"/>
              </a:rPr>
              <a:t>Добросовестность в </a:t>
            </a:r>
            <a:br>
              <a:rPr sz="2900"/>
            </a:br>
            <a:r>
              <a:rPr b="0" lang="ru-RU" sz="2900" spc="-1" strike="noStrike">
                <a:solidFill>
                  <a:srgbClr val="336666"/>
                </a:solidFill>
                <a:latin typeface="Arial Black"/>
                <a:ea typeface="Arial"/>
              </a:rPr>
              <a:t>объективном смысле</a:t>
            </a:r>
            <a:endParaRPr b="0" lang="ru-RU" sz="2900" spc="-1" strike="noStrike">
              <a:solidFill>
                <a:srgbClr val="000000"/>
              </a:solidFill>
              <a:latin typeface="Arial"/>
            </a:endParaRPr>
          </a:p>
        </p:txBody>
      </p:sp>
      <p:sp>
        <p:nvSpPr>
          <p:cNvPr id="18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Такое поведение в гражданском обороте, которое соответствует стандарту честного поведения, ожидаемого от среднего участника гражданского оборота в сходных обстоятельствах. – ЧЕЛОВЕК НА МОСТУ – ОТХОД ОТ «ИНФАНТИЛИЗМА» В ОТНОШЕНИИ СПЕЦИАЛЬНЫХ СУБЪЕКТОВ (профессионалы, предприниматели)</a:t>
            </a:r>
            <a:endParaRPr b="0" lang="ru-RU" sz="2000" spc="-1" strike="noStrike">
              <a:solidFill>
                <a:srgbClr val="000000"/>
              </a:solidFill>
              <a:latin typeface="Arial"/>
            </a:endParaRPr>
          </a:p>
          <a:p>
            <a:pPr marL="343080" indent="-343080" algn="just">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Добрая совесть (bona fides, Treu und Glauben, etc.), по этимологическому смыслу, таит в себе такие элементы, как: знание о другом, о его интересах; знание, связанное с известным доброжелательством; элемент доверия, уверенность, что нравственные основы оборота принимаются во внимание, что от них исходит каждый в своем поведении.»                </a:t>
            </a:r>
            <a:r>
              <a:rPr b="0" i="1" lang="ru-RU" sz="2000" spc="-1" strike="noStrike">
                <a:solidFill>
                  <a:srgbClr val="000000"/>
                </a:solidFill>
                <a:latin typeface="Arial"/>
                <a:ea typeface="Arial"/>
              </a:rPr>
              <a:t>(И.Б. Новицкий, Принцип доброй совести в проекте обязательственного права // Вестник гражданского права, 1916 г.)</a:t>
            </a:r>
            <a:endParaRPr b="0" lang="ru-RU" sz="2000" spc="-1" strike="noStrike">
              <a:solidFill>
                <a:srgbClr val="000000"/>
              </a:solidFill>
              <a:latin typeface="Arial"/>
            </a:endParaRPr>
          </a:p>
          <a:p>
            <a:pPr indent="0">
              <a:lnSpc>
                <a:spcPct val="80000"/>
              </a:lnSpc>
              <a:spcBef>
                <a:spcPts val="400"/>
              </a:spcBef>
              <a:buNone/>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щие новеллы</a:t>
            </a:r>
            <a:endParaRPr b="0" lang="ru-RU" sz="3300" spc="-1" strike="noStrike">
              <a:solidFill>
                <a:srgbClr val="000000"/>
              </a:solidFill>
              <a:latin typeface="Arial"/>
            </a:endParaRPr>
          </a:p>
        </p:txBody>
      </p:sp>
      <p:sp>
        <p:nvSpPr>
          <p:cNvPr id="27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еспечивает реституцию (теневая поправк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едакционные правки (было о недействительности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авлены новые способы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400" spc="-1" strike="noStrike">
                <a:solidFill>
                  <a:srgbClr val="ff0000"/>
                </a:solidFill>
                <a:latin typeface="Arial Black"/>
                <a:ea typeface="Arial"/>
              </a:rPr>
              <a:t>Проблема исполнения обязательства поручителем после и до просрочки</a:t>
            </a:r>
            <a:endParaRPr b="0" lang="ru-RU" sz="2400" spc="-1" strike="noStrike">
              <a:solidFill>
                <a:srgbClr val="000000"/>
              </a:solidFill>
              <a:latin typeface="Arial"/>
            </a:endParaRPr>
          </a:p>
        </p:txBody>
      </p:sp>
      <p:sp>
        <p:nvSpPr>
          <p:cNvPr id="28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80000"/>
              </a:lnSpc>
              <a:spcBef>
                <a:spcPts val="400"/>
              </a:spcBef>
              <a:buNone/>
              <a:tabLst>
                <a:tab algn="l" pos="0"/>
              </a:tabLst>
            </a:pPr>
            <a:r>
              <a:rPr b="0" lang="ru-RU" sz="2000" spc="-1" strike="noStrike">
                <a:solidFill>
                  <a:srgbClr val="000000"/>
                </a:solidFill>
                <a:latin typeface="Arial"/>
                <a:ea typeface="Arial"/>
              </a:rPr>
              <a:t>Договор поручительства, заключенный после просрочки – ППВАС РФ от 12.07.2012 N 42  - П.3. Заключение договора поручительства после наступления срока исполнения основного обязательства, не исполненного должником, не является основанием для признания такого договора недействительной сделкой, так как закон не содержит запрета на установление обеспечения по просроченному обязательству. Кроме того, поручительство может быть дано в отношении обязательства, возникшего не из договора (например, по возмещению причиненного вреда, возврату неосновательного обогащения), срок исполнения которого определяется в соответствии с </a:t>
            </a:r>
            <a:r>
              <a:rPr b="0" lang="ru-RU" sz="2000" spc="-1" strike="noStrike" u="sng">
                <a:solidFill>
                  <a:srgbClr val="99cc00"/>
                </a:solidFill>
                <a:uFillTx/>
                <a:latin typeface="Arial"/>
                <a:ea typeface="Arial"/>
                <a:hlinkClick r:id="rId1"/>
              </a:rPr>
              <a:t>пунктом 2 статьи 314</a:t>
            </a:r>
            <a:r>
              <a:rPr b="0" lang="ru-RU" sz="2000" spc="-1" strike="noStrike">
                <a:solidFill>
                  <a:srgbClr val="000000"/>
                </a:solidFill>
                <a:latin typeface="Arial"/>
                <a:ea typeface="Arial"/>
              </a:rPr>
              <a:t> ГК РФ.</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Однако теряется суть поручительства – оно все-таки имеет цель стимулировать!!! – иначе не отличается от цессии</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Виды способов обеспечения</a:t>
            </a:r>
            <a:endParaRPr b="0" lang="ru-RU" sz="3300" spc="-1" strike="noStrike">
              <a:solidFill>
                <a:srgbClr val="000000"/>
              </a:solidFill>
              <a:latin typeface="Arial"/>
            </a:endParaRPr>
          </a:p>
        </p:txBody>
      </p:sp>
      <p:sp>
        <p:nvSpPr>
          <p:cNvPr id="28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пособы, при которых обязательство "увеличивается" – неустойка, задаток</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Личные" способы – поручительство, независимая гарантия, страховани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ещные" способы – залог, обеспечительный платёж, удержание</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поименованные способы</a:t>
            </a:r>
            <a:endParaRPr b="0" lang="ru-RU" sz="3300" spc="-1" strike="noStrike">
              <a:solidFill>
                <a:srgbClr val="000000"/>
              </a:solidFill>
              <a:latin typeface="Arial"/>
            </a:endParaRPr>
          </a:p>
        </p:txBody>
      </p:sp>
      <p:sp>
        <p:nvSpPr>
          <p:cNvPr id="284"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400"/>
              </a:spcBef>
              <a:buNone/>
              <a:tabLst>
                <a:tab algn="l" pos="0"/>
              </a:tabLst>
            </a:pPr>
            <a:r>
              <a:rPr b="0" lang="ru-RU" sz="2000" spc="-1" strike="noStrike">
                <a:solidFill>
                  <a:srgbClr val="000000"/>
                </a:solidFill>
                <a:latin typeface="Arial"/>
                <a:ea typeface="Arial"/>
              </a:rPr>
              <a:t>Могут быть любой группы</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В определении ВС РФ от 29 октября 2013 г. № 5-КГ13-113 указано, что в силу ст. 329 ГК РФ перечень способов обеспечения исполнения обязательств является открытым. В связи с этим стороны договора займа, исходя из положений ст. 421 ГК РФ о свободе договора, вправе предусмотреть в качестве способа обеспечения исполнения обязательства куплю-продажу недвижимого имущества под условием, по которому переход права собственности на объект недвижимости может ставиться в зависимость от исполнения должником (заемщиком) своих обязанностей по договору займа, а сумма займа является одновременно покупной ценой по договору купли-продажи объекта недвижимости.</a:t>
            </a: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оручительство</a:t>
            </a:r>
            <a:endParaRPr b="0" lang="ru-RU" sz="3300" spc="-1" strike="noStrike">
              <a:solidFill>
                <a:srgbClr val="000000"/>
              </a:solidFill>
              <a:latin typeface="Arial"/>
            </a:endParaRPr>
          </a:p>
        </p:txBody>
      </p:sp>
      <p:sp>
        <p:nvSpPr>
          <p:cNvPr id="286" name="PlaceHolder 2"/>
          <p:cNvSpPr>
            <a:spLocks noGrp="1"/>
          </p:cNvSpPr>
          <p:nvPr>
            <p:ph/>
          </p:nvPr>
        </p:nvSpPr>
        <p:spPr>
          <a:xfrm>
            <a:off x="658440" y="1676520"/>
            <a:ext cx="7695720" cy="4038120"/>
          </a:xfrm>
          <a:prstGeom prst="rect">
            <a:avLst/>
          </a:prstGeom>
          <a:noFill/>
          <a:ln w="0">
            <a:noFill/>
          </a:ln>
        </p:spPr>
        <p:txBody>
          <a:bodyPr numCol="1" spcCol="0" anchor="t">
            <a:noAutofit/>
          </a:bodyPr>
          <a:p>
            <a:pPr indent="0">
              <a:lnSpc>
                <a:spcPct val="100000"/>
              </a:lnSpc>
              <a:spcBef>
                <a:spcPts val="420"/>
              </a:spcBef>
              <a:buNone/>
              <a:tabLst>
                <a:tab algn="l" pos="0"/>
              </a:tabLst>
            </a:pPr>
            <a:r>
              <a:rPr b="0" lang="ru-RU" sz="2100" spc="-1" strike="noStrike">
                <a:solidFill>
                  <a:srgbClr val="000000"/>
                </a:solidFill>
                <a:latin typeface="Arial"/>
                <a:ea typeface="Arial"/>
              </a:rPr>
              <a:t>В п. 1 ст. 361 -  новая норма -̆ договор поручительства может быть заключен в обеспечение как денежных, так и неденежных обязательств.</a:t>
            </a:r>
            <a:endParaRPr b="0" lang="ru-RU" sz="2100" spc="-1" strike="noStrike">
              <a:solidFill>
                <a:srgbClr val="000000"/>
              </a:solidFill>
              <a:latin typeface="Arial"/>
            </a:endParaRPr>
          </a:p>
          <a:p>
            <a:pPr indent="0">
              <a:lnSpc>
                <a:spcPct val="100000"/>
              </a:lnSpc>
              <a:spcBef>
                <a:spcPts val="420"/>
              </a:spcBef>
              <a:buNone/>
              <a:tabLst>
                <a:tab algn="l" pos="0"/>
              </a:tabLst>
            </a:pPr>
            <a:r>
              <a:rPr b="0" lang="ru-RU" sz="2100" spc="-1" strike="noStrike">
                <a:solidFill>
                  <a:srgbClr val="000000"/>
                </a:solidFill>
                <a:latin typeface="Arial"/>
                <a:ea typeface="Arial"/>
              </a:rPr>
              <a:t>Новые правила отсылки к основному договору (п. 3)теперь предусмотрены законоположения о том, как в договоре поручительства должны определяться условия, относящиеся к основному обязательству – достаточно простой отсылка к договору, из которого возникло или возникнет в будущем обеспечиваемое обязательство. Если поручитель – предприниматель, то может быть указано, что поручительство обеспечивает все существующие и (или) будущие обязательства должника перед кредитором в пределах определенной суммы. </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опоручительство (п. 3 ст. 363). Новеллы </a:t>
            </a:r>
            <a:endParaRPr b="0" lang="ru-RU" sz="3300" spc="-1" strike="noStrike">
              <a:solidFill>
                <a:srgbClr val="000000"/>
              </a:solidFill>
              <a:latin typeface="Arial"/>
            </a:endParaRPr>
          </a:p>
        </p:txBody>
      </p:sp>
      <p:sp>
        <p:nvSpPr>
          <p:cNvPr id="288" name="PlaceHolder 2"/>
          <p:cNvSpPr>
            <a:spLocks noGrp="1"/>
          </p:cNvSpPr>
          <p:nvPr>
            <p:ph/>
          </p:nvPr>
        </p:nvSpPr>
        <p:spPr>
          <a:xfrm>
            <a:off x="900000" y="1676520"/>
            <a:ext cx="7695720" cy="4038120"/>
          </a:xfrm>
          <a:prstGeom prst="rect">
            <a:avLst/>
          </a:prstGeom>
          <a:noFill/>
          <a:ln w="0">
            <a:noFill/>
          </a:ln>
        </p:spPr>
        <p:txBody>
          <a:bodyPr numCol="1" spcCol="0" anchor="t">
            <a:noAutofit/>
          </a:bodyPr>
          <a:p>
            <a:pPr indent="0">
              <a:lnSpc>
                <a:spcPct val="100000"/>
              </a:lnSpc>
              <a:spcBef>
                <a:spcPts val="519"/>
              </a:spcBef>
              <a:buNone/>
              <a:tabLst>
                <a:tab algn="l" pos="0"/>
              </a:tabLst>
            </a:pPr>
            <a:r>
              <a:rPr b="0" lang="ru-RU" sz="2600" spc="-1" strike="noStrike">
                <a:solidFill>
                  <a:srgbClr val="000000"/>
                </a:solidFill>
                <a:latin typeface="Arial"/>
                <a:ea typeface="Arial"/>
              </a:rPr>
              <a:t> </a:t>
            </a:r>
            <a:r>
              <a:rPr b="0" lang="ru-RU" sz="2600" spc="-1" strike="noStrike">
                <a:solidFill>
                  <a:srgbClr val="000000"/>
                </a:solidFill>
                <a:latin typeface="Arial"/>
                <a:ea typeface="Arial"/>
              </a:rPr>
              <a:t>во-первых, диспозитивное правило о том, что сопоручители, ограничившие свою ответственность перед кредитором, считаются обеспечившими основное обязательство каждый в своей части;</a:t>
            </a:r>
            <a:endParaRPr b="0" lang="ru-RU" sz="2600" spc="-1" strike="noStrike">
              <a:solidFill>
                <a:srgbClr val="000000"/>
              </a:solidFill>
              <a:latin typeface="Arial"/>
            </a:endParaRPr>
          </a:p>
          <a:p>
            <a:pPr indent="0">
              <a:lnSpc>
                <a:spcPct val="100000"/>
              </a:lnSpc>
              <a:spcBef>
                <a:spcPts val="519"/>
              </a:spcBef>
              <a:buNone/>
              <a:tabLst>
                <a:tab algn="l" pos="0"/>
              </a:tabLst>
            </a:pPr>
            <a:r>
              <a:rPr b="0" lang="ru-RU" sz="2600" spc="-1" strike="noStrike">
                <a:solidFill>
                  <a:srgbClr val="000000"/>
                </a:solidFill>
                <a:latin typeface="Arial"/>
                <a:ea typeface="Arial"/>
              </a:rPr>
              <a:t> </a:t>
            </a:r>
            <a:r>
              <a:rPr b="0" lang="ru-RU" sz="2600" spc="-1" strike="noStrike">
                <a:solidFill>
                  <a:srgbClr val="000000"/>
                </a:solidFill>
                <a:latin typeface="Arial"/>
                <a:ea typeface="Arial"/>
              </a:rPr>
              <a:t>во-вторых, сопоручитель, исполнивший обязательство, имеет право потребовать от других лиц, предоставивших обеспечение основного обязательства совместно с ним, возмещения уплаченного пропорционально их участию в обеспечении основного обязательства. </a:t>
            </a:r>
            <a:endParaRPr b="0" lang="ru-RU" sz="2600" spc="-1" strike="noStrike">
              <a:solidFill>
                <a:srgbClr val="000000"/>
              </a:solidFill>
              <a:latin typeface="Arial"/>
            </a:endParaRPr>
          </a:p>
          <a:p>
            <a:pPr indent="0">
              <a:lnSpc>
                <a:spcPct val="100000"/>
              </a:lnSpc>
              <a:spcBef>
                <a:spcPts val="519"/>
              </a:spcBef>
              <a:buNone/>
              <a:tabLst>
                <a:tab algn="l" pos="0"/>
              </a:tabLst>
            </a:pP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29196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Возражения поручителя </a:t>
            </a:r>
            <a:r>
              <a:rPr b="0" lang="en-US" sz="3300" spc="-1" strike="noStrike">
                <a:solidFill>
                  <a:srgbClr val="ff0000"/>
                </a:solidFill>
                <a:latin typeface="Arial Black"/>
                <a:ea typeface="Arial"/>
              </a:rPr>
              <a:t>(</a:t>
            </a:r>
            <a:r>
              <a:rPr b="0" lang="ru-RU" sz="3600" spc="-1" strike="noStrike">
                <a:solidFill>
                  <a:srgbClr val="ff0000"/>
                </a:solidFill>
                <a:latin typeface="Arial Black"/>
                <a:ea typeface="Arial"/>
              </a:rPr>
              <a:t>ст. 364</a:t>
            </a:r>
            <a:r>
              <a:rPr b="0" lang="en-US" sz="3600" spc="-1" strike="noStrike">
                <a:solidFill>
                  <a:srgbClr val="ff0000"/>
                </a:solidFill>
                <a:latin typeface="Arial Black"/>
                <a:ea typeface="Arial"/>
              </a:rPr>
              <a:t>)</a:t>
            </a:r>
            <a:endParaRPr b="0" lang="ru-RU" sz="3600" spc="-1" strike="noStrike">
              <a:solidFill>
                <a:srgbClr val="000000"/>
              </a:solidFill>
              <a:latin typeface="Arial"/>
            </a:endParaRPr>
          </a:p>
        </p:txBody>
      </p:sp>
      <p:sp>
        <p:nvSpPr>
          <p:cNvPr id="29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00"/>
              </a:spcBef>
              <a:buNone/>
              <a:tabLst>
                <a:tab algn="l" pos="0"/>
              </a:tabLst>
            </a:pPr>
            <a:r>
              <a:rPr b="0" lang="ru-RU" sz="1500" spc="-1" strike="noStrike">
                <a:solidFill>
                  <a:srgbClr val="000000"/>
                </a:solidFill>
                <a:latin typeface="Arial"/>
                <a:ea typeface="Arial"/>
              </a:rPr>
              <a:t>Во-первых, предусмотрено (п. 2), что поручитель вправе не исполнять свое обязательство, пока кредитор имеет возможность получить удовлетворение своего требования путем его зачета против требования должника (хотя непонятно, почему бы самому должнику не предъявить свое встречное требование к зачету и тем самым прекратить обязательство, а вместе с ним и поручительство). </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u="sng">
                <a:solidFill>
                  <a:srgbClr val="000000"/>
                </a:solidFill>
                <a:uFillTx/>
                <a:latin typeface="Arial"/>
                <a:ea typeface="Arial"/>
              </a:rPr>
              <a:t>Во-вторых, установлено (п. 3), что в случае смерти должника поручитель по соответствующему обязательству не вправе ссылаться на ограниченную ответственность наследников должника по долгам наследодателя (вопрос об объёме ответственности наследников поручителя)</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третьих, определено (п. 4), что поручитель, который в результате исполнения обязательства за должника приобрел права кредитора по обеспечению этого обязательства, не вправе их осуществлять во вред кредитору, в частности, указанный поручитель не имеет права на удовлетворение своего требования к должнику из стоимости заложенного имущества до полного удовлетворения требований кредитора по основному обязательству. </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четвертых, в ст. 364 (п. 5) включена норма, не допускающая каких-либо ограничений права поручителя на выдвижение возражений, которые мог бы представить должник, и объявляющая соглашения о подобных ограничениях ничтожными. </a:t>
            </a:r>
            <a:endParaRPr b="0" lang="ru-RU" sz="1500" spc="-1" strike="noStrike">
              <a:solidFill>
                <a:srgbClr val="000000"/>
              </a:solidFill>
              <a:latin typeface="Arial"/>
            </a:endParaRPr>
          </a:p>
          <a:p>
            <a:pPr indent="0">
              <a:lnSpc>
                <a:spcPct val="100000"/>
              </a:lnSpc>
              <a:spcBef>
                <a:spcPts val="300"/>
              </a:spcBef>
              <a:buNone/>
              <a:tabLst>
                <a:tab algn="l" pos="0"/>
              </a:tabLst>
            </a:pP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Извещения ( ст. 366)</a:t>
            </a:r>
            <a:endParaRPr b="0" lang="ru-RU" sz="3300" spc="-1" strike="noStrike">
              <a:solidFill>
                <a:srgbClr val="000000"/>
              </a:solidFill>
              <a:latin typeface="Arial"/>
            </a:endParaRPr>
          </a:p>
        </p:txBody>
      </p:sp>
      <p:sp>
        <p:nvSpPr>
          <p:cNvPr id="292" name="PlaceHolder 2"/>
          <p:cNvSpPr>
            <a:spLocks noGrp="1"/>
          </p:cNvSpPr>
          <p:nvPr>
            <p:ph/>
          </p:nvPr>
        </p:nvSpPr>
        <p:spPr>
          <a:xfrm>
            <a:off x="957600" y="1467720"/>
            <a:ext cx="7695720" cy="403812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должник, извещённый  поручителем о предъявленном к нему кредитором требовании или привлеченного поручителем к участию в деле, сообщить поручителю обо всех имеющихся у него возражениях против этого требования и предоставить соответствующие доказательства. Должник, не исполнивший данную обязанность, лишается права выдвигать соответствующие возражения против требований самого поручителя, исполнившего основное обязательство за должника. </a:t>
            </a:r>
            <a:endParaRPr b="0" lang="ru-RU" sz="2700" spc="-1" strike="noStrike">
              <a:solidFill>
                <a:srgbClr val="000000"/>
              </a:solidFill>
              <a:latin typeface="Arial"/>
            </a:endParaRPr>
          </a:p>
          <a:p>
            <a:pPr indent="0">
              <a:lnSpc>
                <a:spcPct val="100000"/>
              </a:lnSpc>
              <a:spcBef>
                <a:spcPts val="541"/>
              </a:spcBef>
              <a:buNone/>
              <a:tabLst>
                <a:tab algn="l" pos="0"/>
              </a:tabLst>
            </a:pP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рекращение поручительства</a:t>
            </a:r>
            <a:endParaRPr b="0" lang="ru-RU" sz="3300" spc="-1" strike="noStrike">
              <a:solidFill>
                <a:srgbClr val="000000"/>
              </a:solidFill>
              <a:latin typeface="Arial"/>
            </a:endParaRPr>
          </a:p>
        </p:txBody>
      </p:sp>
      <p:sp>
        <p:nvSpPr>
          <p:cNvPr id="294"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80"/>
              </a:spcBef>
              <a:buNone/>
              <a:tabLst>
                <a:tab algn="l" pos="0"/>
              </a:tabLst>
            </a:pPr>
            <a:r>
              <a:rPr b="0" lang="ru-RU" sz="1900" spc="-1" strike="noStrike">
                <a:solidFill>
                  <a:srgbClr val="000000"/>
                </a:solidFill>
                <a:latin typeface="Arial"/>
                <a:ea typeface="Arial"/>
              </a:rPr>
              <a:t>1)ликвидация должника и 2)исполнение должником этого обязательства – типичные основания. </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Новеллы:</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При ликвидации - поручительство не считается прекращенным, если кредитор успел предъявить требования к поручителю до завершения ликвидации должника. При исполнении – С учетом того, что основанием прекращения обязательства является лишь его полное и надлежащее исполнение (п. 1 ст. 408 ГК РФ), частичное исполнение должником обязательства, если оно обеспечено поручительством не в полном размере, должно засчитываться в счет необеспеченной части соответствующего обязательства и, следовательно, не может служить основанием прекращения поручительства. </a:t>
            </a:r>
            <a:endParaRPr b="0" lang="ru-RU" sz="1900" spc="-1" strike="noStrike">
              <a:solidFill>
                <a:srgbClr val="000000"/>
              </a:solidFill>
              <a:latin typeface="Arial"/>
            </a:endParaRPr>
          </a:p>
          <a:p>
            <a:pPr indent="0">
              <a:lnSpc>
                <a:spcPct val="100000"/>
              </a:lnSpc>
              <a:spcBef>
                <a:spcPts val="380"/>
              </a:spcBef>
              <a:buNone/>
              <a:tabLst>
                <a:tab algn="l" pos="0"/>
              </a:tabLst>
            </a:pP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рекращение поручительства</a:t>
            </a:r>
            <a:endParaRPr b="0" lang="ru-RU" sz="3300" spc="-1" strike="noStrike">
              <a:solidFill>
                <a:srgbClr val="000000"/>
              </a:solidFill>
              <a:latin typeface="Arial"/>
            </a:endParaRPr>
          </a:p>
        </p:txBody>
      </p:sp>
      <p:sp>
        <p:nvSpPr>
          <p:cNvPr id="29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59"/>
              </a:spcBef>
              <a:buClr>
                <a:srgbClr val="cccc99"/>
              </a:buClr>
              <a:buSzPct val="70000"/>
              <a:buFont typeface="Wingdings" charset="2"/>
              <a:buChar char=""/>
            </a:pPr>
            <a:r>
              <a:rPr b="0" lang="ru-RU" sz="2300" spc="-1" strike="noStrike">
                <a:solidFill>
                  <a:srgbClr val="000000"/>
                </a:solidFill>
                <a:latin typeface="Arial"/>
                <a:ea typeface="Arial"/>
              </a:rPr>
              <a:t>Не может поручительство считаться прекращенным и в ситуации, если им обеспечено одно из нескольких обязательств, существующих между кредитором и должником, и последний не указал, в счет какого из обязательств им предоставлено исполнение, поскольку при этих условиях будет считаться исполненным необеспеченное обязательство. </a:t>
            </a:r>
            <a:endParaRPr b="0" lang="ru-RU" sz="2300" spc="-1" strike="noStrike">
              <a:solidFill>
                <a:srgbClr val="000000"/>
              </a:solidFill>
              <a:latin typeface="Arial"/>
            </a:endParaRPr>
          </a:p>
          <a:p>
            <a:pPr marL="343080" indent="-343080">
              <a:lnSpc>
                <a:spcPct val="100000"/>
              </a:lnSpc>
              <a:spcBef>
                <a:spcPts val="459"/>
              </a:spcBef>
              <a:buClr>
                <a:srgbClr val="cccc99"/>
              </a:buClr>
              <a:buSzPct val="70000"/>
              <a:buFont typeface="Wingdings" charset="2"/>
              <a:buChar char=""/>
            </a:pPr>
            <a:r>
              <a:rPr b="0" lang="ru-RU" sz="2300" spc="-1" strike="noStrike">
                <a:solidFill>
                  <a:srgbClr val="000000"/>
                </a:solidFill>
                <a:latin typeface="Arial"/>
                <a:ea typeface="Arial"/>
              </a:rPr>
              <a:t>Частичное изменение основного обязательства не прекращает поручительства, поручитель отвечает в первоначальном объёме. </a:t>
            </a:r>
            <a:endParaRPr b="0" lang="ru-RU"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900" spc="-1" strike="noStrike">
                <a:solidFill>
                  <a:srgbClr val="336666"/>
                </a:solidFill>
                <a:latin typeface="Arial Black"/>
                <a:ea typeface="Arial"/>
              </a:rPr>
              <a:t>Добросовестность в субъективном смысле</a:t>
            </a:r>
            <a:endParaRPr b="0" lang="ru-RU" sz="2900" spc="-1" strike="noStrike">
              <a:solidFill>
                <a:srgbClr val="000000"/>
              </a:solidFill>
              <a:latin typeface="Arial"/>
            </a:endParaRPr>
          </a:p>
        </p:txBody>
      </p:sp>
      <p:sp>
        <p:nvSpPr>
          <p:cNvPr id="19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0">
              <a:lnSpc>
                <a:spcPct val="80000"/>
              </a:lnSpc>
              <a:spcBef>
                <a:spcPts val="439"/>
              </a:spcBef>
              <a:buNone/>
              <a:tabLst>
                <a:tab algn="l" pos="0"/>
              </a:tabLst>
            </a:pPr>
            <a:r>
              <a:rPr b="0" lang="ru-RU" sz="2200" spc="-1" strike="noStrike">
                <a:solidFill>
                  <a:srgbClr val="000000"/>
                </a:solidFill>
                <a:latin typeface="Arial"/>
                <a:ea typeface="Arial"/>
              </a:rPr>
              <a:t>В тексте правовых норм выражается словами: «лицо не знало и не должно было знать…»</a:t>
            </a:r>
            <a:endParaRPr b="0" lang="ru-RU" sz="22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имущество приобретено у лица, которое не имело права его отчуждать (добросовестный приобретатель) – п. 1 ст. 361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наличии какого-либо порока сделки (добросовестный контрагент) – ст. 223, п. 2 ст. 224, п. 1 и 2 ст. 225 ГК ДНР и т.д.</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недостоверности данных, содержащихся в государственном реестре – п. 6 ст. 9, п. 2 ст. 55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вещь передана в залог неуправомоченным лицом (добросовестный залогодержатель) – п. 2 ст. 405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приобретаемое имущество является предметом залога – подп. 2 п. 1 ст. 427 ГК ДНР</a:t>
            </a:r>
            <a:endParaRPr b="0" lang="ru-RU" sz="1800" spc="-1" strike="noStrike">
              <a:solidFill>
                <a:srgbClr val="000000"/>
              </a:solidFill>
              <a:latin typeface="Arial"/>
            </a:endParaRPr>
          </a:p>
          <a:p>
            <a:pPr marL="343080" indent="0">
              <a:lnSpc>
                <a:spcPct val="80000"/>
              </a:lnSpc>
              <a:spcBef>
                <a:spcPts val="439"/>
              </a:spcBef>
              <a:buNone/>
              <a:tabLst>
                <a:tab algn="l" pos="0"/>
              </a:tabLst>
            </a:pPr>
            <a:r>
              <a:rPr b="0" lang="ru-RU" sz="2200" spc="-1" strike="noStrike">
                <a:solidFill>
                  <a:srgbClr val="000000"/>
                </a:solidFill>
                <a:latin typeface="Arial"/>
                <a:ea typeface="Arial"/>
              </a:rPr>
              <a:t>Дает защиту против требования, основанного на обстоятельствах, о которых ответчик не был осведомлен (виндикационного иска, иска о признании сделки недействительной и т.д.)</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зависимая гарантия </a:t>
            </a:r>
            <a:endParaRPr b="0" lang="ru-RU" sz="3300" spc="-1" strike="noStrike">
              <a:solidFill>
                <a:srgbClr val="000000"/>
              </a:solidFill>
              <a:latin typeface="Arial"/>
            </a:endParaRPr>
          </a:p>
        </p:txBody>
      </p:sp>
      <p:sp>
        <p:nvSpPr>
          <p:cNvPr id="298" name="PlaceHolder 2"/>
          <p:cNvSpPr>
            <a:spLocks noGrp="1"/>
          </p:cNvSpPr>
          <p:nvPr>
            <p:ph/>
          </p:nvPr>
        </p:nvSpPr>
        <p:spPr>
          <a:xfrm>
            <a:off x="946080" y="1536840"/>
            <a:ext cx="7695720" cy="4038120"/>
          </a:xfrm>
          <a:prstGeom prst="rect">
            <a:avLst/>
          </a:prstGeom>
          <a:noFill/>
          <a:ln w="0">
            <a:noFill/>
          </a:ln>
        </p:spPr>
        <p:txBody>
          <a:bodyPr numCol="1" spcCol="0" anchor="t">
            <a:noAutofit/>
          </a:bodyPr>
          <a:p>
            <a:pPr marL="343080" indent="-343080">
              <a:lnSpc>
                <a:spcPct val="10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Усиление независимости </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Например, п. 1 ст. 374 – бенефициар не обязан доказывать  в чем состоит нарушение принципала,</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В ст. 379 (п. 1) установлена обратная презумпция: принципал обязан возместить гаранту выплаченные в соответствии с условиями независимой гарантии денежные суммы, если соглашением о выдаче гарантии не предусмотрено иное. </a:t>
            </a:r>
            <a:endParaRPr b="0" lang="ru-RU" sz="1900" spc="-1" strike="noStrike">
              <a:solidFill>
                <a:srgbClr val="000000"/>
              </a:solidFill>
              <a:latin typeface="Arial"/>
            </a:endParaRPr>
          </a:p>
          <a:p>
            <a:pPr marL="343080" indent="-343080">
              <a:lnSpc>
                <a:spcPct val="100000"/>
              </a:lnSpc>
              <a:spcBef>
                <a:spcPts val="380"/>
              </a:spcBef>
              <a:buClr>
                <a:srgbClr val="cccc99"/>
              </a:buClr>
              <a:buSzPct val="70000"/>
              <a:buFont typeface="Wingdings" charset="2"/>
              <a:buChar char=""/>
              <a:tabLst>
                <a:tab algn="l" pos="0"/>
              </a:tabLst>
            </a:pPr>
            <a:r>
              <a:rPr b="0" lang="ru-RU" sz="1900" spc="-1" strike="noStrike">
                <a:solidFill>
                  <a:srgbClr val="000000"/>
                </a:solidFill>
                <a:latin typeface="Arial"/>
                <a:ea typeface="Arial"/>
              </a:rPr>
              <a:t>Среди новелл о независимой гарантии особо выделяется ст. 375.1 ГК РФ, определяющая ответственность бенефициара. Согласно указанной статье бенефициар обязан возместить гаранту или принципалу убытки, которые причинены вследствие того, что представленные им документы являлись недостоверными либо предъявленное требование являлось необоснованным. </a:t>
            </a:r>
            <a:endParaRPr b="0" lang="ru-RU" sz="1900" spc="-1" strike="noStrike">
              <a:solidFill>
                <a:srgbClr val="000000"/>
              </a:solidFill>
              <a:latin typeface="Arial"/>
            </a:endParaRPr>
          </a:p>
          <a:p>
            <a:pPr indent="0">
              <a:lnSpc>
                <a:spcPct val="100000"/>
              </a:lnSpc>
              <a:spcBef>
                <a:spcPts val="380"/>
              </a:spcBef>
              <a:buNone/>
              <a:tabLst>
                <a:tab algn="l" pos="0"/>
              </a:tabLst>
            </a:pP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Залог. </a:t>
            </a:r>
            <a:endParaRPr b="0" lang="ru-RU" sz="3300" spc="-1" strike="noStrike">
              <a:solidFill>
                <a:srgbClr val="000000"/>
              </a:solidFill>
              <a:latin typeface="Arial"/>
            </a:endParaRPr>
          </a:p>
        </p:txBody>
      </p:sp>
      <p:sp>
        <p:nvSpPr>
          <p:cNvPr id="30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овеллы.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отальный залог. Учет залога. Добросовестность владельца – прекращает залог. Залог прав и банковского счет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133344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кращение обязательства </a:t>
            </a:r>
            <a:endParaRPr b="0" lang="ru-RU" sz="3300" spc="-1" strike="noStrike">
              <a:solidFill>
                <a:srgbClr val="000000"/>
              </a:solidFill>
              <a:latin typeface="Arial"/>
            </a:endParaRPr>
          </a:p>
        </p:txBody>
      </p:sp>
      <p:sp>
        <p:nvSpPr>
          <p:cNvPr id="302" name="PlaceHolder 2"/>
          <p:cNvSpPr>
            <a:spLocks noGrp="1"/>
          </p:cNvSpPr>
          <p:nvPr>
            <p:ph/>
          </p:nvPr>
        </p:nvSpPr>
        <p:spPr>
          <a:xfrm>
            <a:off x="762120" y="1905120"/>
            <a:ext cx="3771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
        <p:nvSpPr>
          <p:cNvPr id="303" name="PlaceHolder 3"/>
          <p:cNvSpPr>
            <a:spLocks noGrp="1"/>
          </p:cNvSpPr>
          <p:nvPr>
            <p:ph/>
          </p:nvPr>
        </p:nvSpPr>
        <p:spPr>
          <a:xfrm>
            <a:off x="4686480" y="1905120"/>
            <a:ext cx="3771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кращение обязательств </a:t>
            </a:r>
            <a:endParaRPr b="0" lang="ru-RU" sz="3300" spc="-1" strike="noStrike">
              <a:solidFill>
                <a:srgbClr val="000000"/>
              </a:solidFill>
              <a:latin typeface="Arial"/>
            </a:endParaRPr>
          </a:p>
        </p:txBody>
      </p:sp>
      <p:sp>
        <p:nvSpPr>
          <p:cNvPr id="30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Ст. 407 ГК РФ «Основания прекращения обязательств» - обязательство прекращается полностью или частично по основаниям, предусмотренным настоящим Кодексом, другими законами, иными правовыми актами или договором. Новеллой является норма п. 3 ст. 407 ГК РФ, в которой предусмотрено, что стороны своим соглашением вправе прекратить обязательство и определить последствия его прекращения, если иное не установлено законом или не вытекает из существа обязательства. Это тенденция усиления начал диспозитивности.</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800" spc="-1" strike="noStrike">
                <a:solidFill>
                  <a:srgbClr val="336666"/>
                </a:solidFill>
                <a:latin typeface="Arial Black"/>
                <a:ea typeface="Arial"/>
              </a:rPr>
              <a:t>Глава 26 ГК РФ (перечень открытый)</a:t>
            </a:r>
            <a:endParaRPr b="0" lang="ru-RU" sz="2800" spc="-1" strike="noStrike">
              <a:solidFill>
                <a:srgbClr val="000000"/>
              </a:solidFill>
              <a:latin typeface="Arial"/>
            </a:endParaRPr>
          </a:p>
        </p:txBody>
      </p:sp>
      <p:sp>
        <p:nvSpPr>
          <p:cNvPr id="307"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Это могут быть </a:t>
            </a:r>
            <a:r>
              <a:rPr b="1" lang="ru-RU" sz="2400" spc="-1" strike="noStrike">
                <a:solidFill>
                  <a:srgbClr val="000000"/>
                </a:solidFill>
                <a:latin typeface="Arial"/>
                <a:ea typeface="Arial"/>
              </a:rPr>
              <a:t>сделки</a:t>
            </a:r>
            <a:r>
              <a:rPr b="0" lang="ru-RU" sz="2400" spc="-1" strike="noStrike">
                <a:solidFill>
                  <a:srgbClr val="000000"/>
                </a:solidFill>
                <a:latin typeface="Arial"/>
                <a:ea typeface="Arial"/>
              </a:rPr>
              <a:t> (многосторонние или односторонние) и </a:t>
            </a:r>
            <a:r>
              <a:rPr b="1" lang="ru-RU" sz="2400" spc="-1" strike="noStrike">
                <a:solidFill>
                  <a:srgbClr val="000000"/>
                </a:solidFill>
                <a:latin typeface="Arial"/>
                <a:ea typeface="Arial"/>
              </a:rPr>
              <a:t>обстоятельства, не связанные с волей участников обязательства</a:t>
            </a:r>
            <a:r>
              <a:rPr b="0" lang="ru-RU" sz="2400" spc="-1" strike="noStrike">
                <a:solidFill>
                  <a:srgbClr val="000000"/>
                </a:solidFill>
                <a:latin typeface="Arial"/>
                <a:ea typeface="Arial"/>
              </a:rPr>
              <a:t>. Последние можно разделить на две группы, связанные: 1) с личностью субъекта обязательства (совпадение должника и кредитора в одном лице, смерть гражданина, ликвидация юридического лица); 2) с невозможностью исполнения – фактической (ст. 416 ГК РФ) и юридической (ст. 417 ГК РФ).</a:t>
            </a:r>
            <a:endParaRPr b="0" lang="ru-RU" sz="24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тступное</a:t>
            </a:r>
            <a:endParaRPr b="0" lang="ru-RU" sz="3300" spc="-1" strike="noStrike">
              <a:solidFill>
                <a:srgbClr val="000000"/>
              </a:solidFill>
              <a:latin typeface="Arial"/>
            </a:endParaRPr>
          </a:p>
        </p:txBody>
      </p:sp>
      <p:sp>
        <p:nvSpPr>
          <p:cNvPr id="309"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561"/>
              </a:spcBef>
              <a:buNone/>
              <a:tabLst>
                <a:tab algn="l" pos="0"/>
              </a:tabLst>
            </a:pPr>
            <a:r>
              <a:rPr b="0" lang="ru-RU" sz="2800" spc="-1" strike="noStrike">
                <a:solidFill>
                  <a:srgbClr val="000000"/>
                </a:solidFill>
                <a:latin typeface="Arial"/>
                <a:ea typeface="Arial"/>
              </a:rPr>
              <a:t>Согласно ст. 409 ГК РФ по соглашению сторон обязательство может быть прекращено предоставлением отступного – уплатой денежных средств или передачей иного имущества.</a:t>
            </a:r>
            <a:endParaRPr b="0" lang="ru-RU" sz="2800" spc="-1" strike="noStrike">
              <a:solidFill>
                <a:srgbClr val="000000"/>
              </a:solidFill>
              <a:latin typeface="Arial"/>
            </a:endParaRPr>
          </a:p>
          <a:p>
            <a:pPr indent="0">
              <a:lnSpc>
                <a:spcPct val="100000"/>
              </a:lnSpc>
              <a:spcBef>
                <a:spcPts val="561"/>
              </a:spcBef>
              <a:buNone/>
              <a:tabLst>
                <a:tab algn="l" pos="0"/>
              </a:tabLst>
            </a:pPr>
            <a:r>
              <a:rPr b="0" lang="ru-RU" sz="2800" spc="-1" strike="noStrike">
                <a:solidFill>
                  <a:srgbClr val="000000"/>
                </a:solidFill>
                <a:latin typeface="Arial"/>
                <a:ea typeface="Arial"/>
              </a:rPr>
              <a:t>Теперь это </a:t>
            </a:r>
            <a:r>
              <a:rPr b="1" lang="ru-RU" sz="2800" spc="-1" strike="noStrike">
                <a:solidFill>
                  <a:srgbClr val="000000"/>
                </a:solidFill>
                <a:latin typeface="Arial"/>
                <a:ea typeface="Arial"/>
              </a:rPr>
              <a:t>реальный</a:t>
            </a:r>
            <a:r>
              <a:rPr b="0" lang="ru-RU" sz="2800" spc="-1" strike="noStrike">
                <a:solidFill>
                  <a:srgbClr val="000000"/>
                </a:solidFill>
                <a:latin typeface="Arial"/>
                <a:ea typeface="Arial"/>
              </a:rPr>
              <a:t> договор. </a:t>
            </a:r>
            <a:endParaRPr b="0" lang="ru-RU" sz="2800" spc="-1" strike="noStrike">
              <a:solidFill>
                <a:srgbClr val="000000"/>
              </a:solidFill>
              <a:latin typeface="Arial"/>
            </a:endParaRPr>
          </a:p>
          <a:p>
            <a:pPr indent="0">
              <a:lnSpc>
                <a:spcPct val="100000"/>
              </a:lnSpc>
              <a:spcBef>
                <a:spcPts val="320"/>
              </a:spcBef>
              <a:buNone/>
              <a:tabLst>
                <a:tab algn="l" pos="0"/>
              </a:tabLst>
            </a:pPr>
            <a:r>
              <a:rPr b="0" lang="ru-RU" sz="1600" spc="-1" strike="noStrike">
                <a:solidFill>
                  <a:srgbClr val="000000"/>
                </a:solidFill>
                <a:latin typeface="Arial"/>
                <a:ea typeface="Arial"/>
              </a:rPr>
              <a:t>Момент перехода права собственности (ст.223,224 ГК). Однако, в  арбитражной практике имелся случай, когда банку было отказано в требовании о взыскании процентов и пеней за просрочку уплаты процентов по кредитному договору, начисленных с момента подписания акта приема-передачи отступного (недвижимости) и государственной регистрации перехода права собственности (постановление Президиума ВАС РФ от 10.06.2014 № 2504/14 по делу № А40-79875/2013)</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a:t>
            </a:r>
            <a:endParaRPr b="0" lang="ru-RU" sz="3300" spc="-1" strike="noStrike">
              <a:solidFill>
                <a:srgbClr val="000000"/>
              </a:solidFill>
              <a:latin typeface="Arial"/>
            </a:endParaRPr>
          </a:p>
        </p:txBody>
      </p:sp>
      <p:sp>
        <p:nvSpPr>
          <p:cNvPr id="311"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60"/>
              </a:spcBef>
              <a:buNone/>
              <a:tabLst>
                <a:tab algn="l" pos="0"/>
              </a:tabLst>
            </a:pPr>
            <a:r>
              <a:rPr b="0" lang="ru-RU" sz="1800" spc="-1" strike="noStrike">
                <a:solidFill>
                  <a:srgbClr val="000000"/>
                </a:solidFill>
                <a:latin typeface="Arial"/>
                <a:ea typeface="Arial"/>
              </a:rPr>
              <a:t>Обязательство прекращается соглашением сторон о замене первоначального обязательства, существовавшего между ними, другим обязательством между теми же лицами (новация), если иное не установлено законом или не вытекает из существа отношений. Новация прекращает дополнительные обязательства, связанные с первоначальным обязательством, если иное не предусмотрено соглашением сторон (ст. 414 ГК РФ)</a:t>
            </a:r>
            <a:endParaRPr b="0" lang="ru-RU" sz="1800" spc="-1" strike="noStrike">
              <a:solidFill>
                <a:srgbClr val="000000"/>
              </a:solidFill>
              <a:latin typeface="Arial"/>
            </a:endParaRPr>
          </a:p>
          <a:p>
            <a:pPr indent="0">
              <a:lnSpc>
                <a:spcPct val="100000"/>
              </a:lnSpc>
              <a:spcBef>
                <a:spcPts val="360"/>
              </a:spcBef>
              <a:buNone/>
              <a:tabLst>
                <a:tab algn="l" pos="0"/>
              </a:tabLst>
            </a:pPr>
            <a:r>
              <a:rPr b="0" lang="ru-RU" sz="1800" spc="-1" strike="noStrike">
                <a:solidFill>
                  <a:srgbClr val="000000"/>
                </a:solidFill>
                <a:latin typeface="Arial"/>
                <a:ea typeface="Arial"/>
              </a:rPr>
              <a:t>Из соглашения о новации должно определенно следовать, что стороны имели в виду замену первоначального обязательства другим, что влечет для них правовые последствия, в частности невозможность требовать исполнения первоначального обязательства (п. 2 Информационного письма Президиума ВАС РФ от 21 декабря 2005 г. № 103 «Обзор практики применения арбитражными судами статьи 414 Гражданского кодекса РФ») </a:t>
            </a:r>
            <a:endParaRPr b="0" lang="ru-RU" sz="1800" spc="-1" strike="noStrike">
              <a:solidFill>
                <a:srgbClr val="000000"/>
              </a:solidFill>
              <a:latin typeface="Arial"/>
            </a:endParaRPr>
          </a:p>
          <a:p>
            <a:pPr indent="0">
              <a:lnSpc>
                <a:spcPct val="100000"/>
              </a:lnSpc>
              <a:spcBef>
                <a:spcPts val="360"/>
              </a:spcBef>
              <a:buNone/>
              <a:tabLst>
                <a:tab algn="l" pos="0"/>
              </a:tabLst>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 </a:t>
            </a:r>
            <a:endParaRPr b="0" lang="ru-RU" sz="3300" spc="-1" strike="noStrike">
              <a:solidFill>
                <a:srgbClr val="000000"/>
              </a:solidFill>
              <a:latin typeface="Arial"/>
            </a:endParaRPr>
          </a:p>
        </p:txBody>
      </p:sp>
      <p:sp>
        <p:nvSpPr>
          <p:cNvPr id="313"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519"/>
              </a:spcBef>
              <a:buNone/>
              <a:tabLst>
                <a:tab algn="l" pos="0"/>
              </a:tabLst>
            </a:pPr>
            <a:r>
              <a:rPr b="0" lang="ru-RU" sz="2600" spc="-1" strike="noStrike">
                <a:solidFill>
                  <a:srgbClr val="000000"/>
                </a:solidFill>
                <a:latin typeface="Arial"/>
                <a:ea typeface="Arial"/>
              </a:rPr>
              <a:t>Предполагает замену обязательство на </a:t>
            </a:r>
            <a:r>
              <a:rPr b="0" lang="ru-RU" sz="2400" spc="-1" strike="noStrike">
                <a:solidFill>
                  <a:srgbClr val="000000"/>
                </a:solidFill>
                <a:latin typeface="Arial"/>
                <a:ea typeface="Arial"/>
              </a:rPr>
              <a:t>обязательство иного </a:t>
            </a:r>
            <a:r>
              <a:rPr b="1" lang="ru-RU" sz="2400" spc="-1" strike="noStrike">
                <a:solidFill>
                  <a:srgbClr val="000000"/>
                </a:solidFill>
                <a:latin typeface="Arial"/>
                <a:ea typeface="Arial"/>
              </a:rPr>
              <a:t>типа</a:t>
            </a:r>
            <a:r>
              <a:rPr b="0" lang="ru-RU" sz="2400" spc="-1" strike="noStrike">
                <a:solidFill>
                  <a:srgbClr val="000000"/>
                </a:solidFill>
                <a:latin typeface="Arial"/>
                <a:ea typeface="Arial"/>
              </a:rPr>
              <a:t> (см. ст. 818 ГК РФ). Изменение сроков и порядка погашения задолженности не является изменением способа исполнения обязательства. Согласно п. 1 ст. 450, п. 1 ст. 453 ГК РФ соглашение о порядке погашения долга представляет собой изменение кредитного договора, поэтому обязательства, возникшие из кредитного договора, сохранились (п. 1 Обзора практики применения арбитражными судами ст. 414 ГК РФ). </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Иное соглашение –это изменение обязательства с сохранением дополнительных обязательств</a:t>
            </a:r>
            <a:endParaRPr b="0" lang="ru-RU" sz="2400" spc="-1" strike="noStrike">
              <a:solidFill>
                <a:srgbClr val="000000"/>
              </a:solidFill>
              <a:latin typeface="Arial"/>
            </a:endParaRPr>
          </a:p>
          <a:p>
            <a:pPr indent="0">
              <a:lnSpc>
                <a:spcPct val="100000"/>
              </a:lnSpc>
              <a:spcBef>
                <a:spcPts val="519"/>
              </a:spcBef>
              <a:buNone/>
              <a:tabLst>
                <a:tab algn="l" pos="0"/>
              </a:tabLst>
            </a:pP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a:t>
            </a:r>
            <a:endParaRPr b="0" lang="ru-RU" sz="3300" spc="-1" strike="noStrike">
              <a:solidFill>
                <a:srgbClr val="000000"/>
              </a:solidFill>
              <a:latin typeface="Arial"/>
            </a:endParaRPr>
          </a:p>
        </p:txBody>
      </p:sp>
      <p:sp>
        <p:nvSpPr>
          <p:cNvPr id="31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азрешена новация обязательств по возмещению вреда, причиненного жизни или здоровью, и по уплате алименто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икрытие новацией "рефинансирования". Начисление процентов на процентов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ощение долга</a:t>
            </a:r>
            <a:endParaRPr b="0" lang="ru-RU" sz="3300" spc="-1" strike="noStrike">
              <a:solidFill>
                <a:srgbClr val="000000"/>
              </a:solidFill>
              <a:latin typeface="Arial"/>
            </a:endParaRPr>
          </a:p>
        </p:txBody>
      </p:sp>
      <p:sp>
        <p:nvSpPr>
          <p:cNvPr id="317" name="PlaceHolder 2"/>
          <p:cNvSpPr>
            <a:spLocks noGrp="1"/>
          </p:cNvSpPr>
          <p:nvPr>
            <p:ph/>
          </p:nvPr>
        </p:nvSpPr>
        <p:spPr>
          <a:xfrm>
            <a:off x="762120" y="1797840"/>
            <a:ext cx="7695720" cy="37447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 </a:t>
            </a:r>
            <a:r>
              <a:rPr b="0" lang="ru-RU" sz="2200" spc="-1" strike="noStrike">
                <a:solidFill>
                  <a:srgbClr val="000000"/>
                </a:solidFill>
                <a:latin typeface="Arial"/>
                <a:ea typeface="Arial"/>
              </a:rPr>
              <a:t>Обязательство прекращается освобождением кредитором должника от лежащих на нем обязанностей, если это не нарушает прав других лиц в отношении имущества кредитора (ст. 415 ГК РФ).</a:t>
            </a:r>
            <a:endParaRPr b="0" lang="ru-RU" sz="22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щение долга является двухсторонней сделкой - дарение, но акцепт по общему правилу – молчание;</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щением долга может прекращаться обязательство в целом или в части;</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едмет -  только возникший долг;</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не допускается, если оно нарушает права других лиц в отношении имущества кредитора (п. 3 Информационного письма Президиума ВАС РФ от 21 декабря 2005 г. № 104)</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500" spc="-1" strike="noStrike">
                <a:solidFill>
                  <a:srgbClr val="336666"/>
                </a:solidFill>
                <a:latin typeface="Arial Black"/>
                <a:ea typeface="Arial"/>
              </a:rPr>
              <a:t>Объективная добросовестность и </a:t>
            </a:r>
            <a:r>
              <a:rPr b="0" lang="ru-RU" sz="2900" spc="-1" strike="noStrike">
                <a:solidFill>
                  <a:srgbClr val="336666"/>
                </a:solidFill>
                <a:latin typeface="Arial Black"/>
                <a:ea typeface="Arial"/>
              </a:rPr>
              <a:t>злоупотребление</a:t>
            </a:r>
            <a:r>
              <a:rPr b="0" lang="ru-RU" sz="2500" spc="-1" strike="noStrike">
                <a:solidFill>
                  <a:srgbClr val="336666"/>
                </a:solidFill>
                <a:latin typeface="Arial Black"/>
                <a:ea typeface="Arial"/>
              </a:rPr>
              <a:t> правом</a:t>
            </a:r>
            <a:endParaRPr b="0" lang="ru-RU" sz="2500" spc="-1" strike="noStrike">
              <a:solidFill>
                <a:srgbClr val="000000"/>
              </a:solidFill>
              <a:latin typeface="Arial"/>
            </a:endParaRPr>
          </a:p>
        </p:txBody>
      </p:sp>
      <p:sp>
        <p:nvSpPr>
          <p:cNvPr id="192" name="PlaceHolder 2"/>
          <p:cNvSpPr>
            <a:spLocks noGrp="1"/>
          </p:cNvSpPr>
          <p:nvPr>
            <p:ph/>
          </p:nvPr>
        </p:nvSpPr>
        <p:spPr>
          <a:xfrm>
            <a:off x="539640" y="1773360"/>
            <a:ext cx="8229240" cy="452556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добросовестное поведение, как правило, выражается в злоупотреблении правом</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Злоупотребление правом – это всегда недобросовестное (в объективном смысле) поведение (п.1 ст. 11 ГК РФ)</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Зачет взаимных требований</a:t>
            </a:r>
            <a:endParaRPr b="0" lang="ru-RU" sz="3300" spc="-1" strike="noStrike">
              <a:solidFill>
                <a:srgbClr val="000000"/>
              </a:solidFill>
              <a:latin typeface="Arial"/>
            </a:endParaRPr>
          </a:p>
        </p:txBody>
      </p:sp>
      <p:sp>
        <p:nvSpPr>
          <p:cNvPr id="319" name="PlaceHolder 2"/>
          <p:cNvSpPr>
            <a:spLocks noGrp="1"/>
          </p:cNvSpPr>
          <p:nvPr>
            <p:ph/>
          </p:nvPr>
        </p:nvSpPr>
        <p:spPr>
          <a:xfrm>
            <a:off x="426600" y="1485000"/>
            <a:ext cx="7695720" cy="285408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Условия прекращения обязательства зачетом (ст. 410 ГК РФ):</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1) однородность обязательств  - наличие во встречных обязательствах одинаковых объектов ( на практике это, как правило, деньги);</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2)  встречность обязщательства  - кредитор в одном обязательстве выступает должником в другом</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3) наступление срока исполнения. Возможно и до, если предусмотрено законом (ст.826) </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1700" spc="-1" strike="noStrike">
                <a:solidFill>
                  <a:srgbClr val="336666"/>
                </a:solidFill>
                <a:latin typeface="Arial Black"/>
                <a:ea typeface="Arial"/>
              </a:rPr>
              <a:t>Заявление о зачете является односторонней сделкой</a:t>
            </a:r>
            <a:endParaRPr b="0" lang="ru-RU" sz="1700" spc="-1" strike="noStrike">
              <a:solidFill>
                <a:srgbClr val="000000"/>
              </a:solidFill>
              <a:latin typeface="Arial"/>
            </a:endParaRPr>
          </a:p>
        </p:txBody>
      </p:sp>
      <p:sp>
        <p:nvSpPr>
          <p:cNvPr id="321"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80"/>
              </a:spcBef>
              <a:buNone/>
              <a:tabLst>
                <a:tab algn="l" pos="0"/>
              </a:tabLst>
            </a:pPr>
            <a:r>
              <a:rPr b="0" lang="ru-RU" sz="1900" spc="-1" strike="noStrike">
                <a:solidFill>
                  <a:srgbClr val="000000"/>
                </a:solidFill>
                <a:latin typeface="Arial"/>
                <a:ea typeface="Arial"/>
              </a:rPr>
              <a:t>Норма ст. 410 ГК РФ прямо не устанавливает, прекращается ли обязательство с момента направления или получения заявления стороны о зачете требования. Однако в соответствии со ст. 165.1 ГК РФ юридически значимые сообщения, которым следует относить и заявление о зачете, влекут для этого лица такие последствия с момента доставки соответствующего сообщения ему или его представителю. Такой подход был закреплен ранее в Обзоре практики разрешения споров, связанных с прекращением обязательств зачетом встречных однородных требований (Информационное письмо Президиума ВАС РФ от 29 декабря 2001 г. № 65). Установлено, что для прекращения обязательства зачетом заявление о зачете должно быть получено соответствующей стороной</a:t>
            </a: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язательства, по которым зачет запрещен (ст.411)</a:t>
            </a:r>
            <a:endParaRPr b="0" lang="ru-RU" sz="3300" spc="-1" strike="noStrike">
              <a:solidFill>
                <a:srgbClr val="000000"/>
              </a:solidFill>
              <a:latin typeface="Arial"/>
            </a:endParaRPr>
          </a:p>
        </p:txBody>
      </p:sp>
      <p:sp>
        <p:nvSpPr>
          <p:cNvPr id="323" name="PlaceHolder 2"/>
          <p:cNvSpPr>
            <a:spLocks noGrp="1"/>
          </p:cNvSpPr>
          <p:nvPr>
            <p:ph/>
          </p:nvPr>
        </p:nvSpPr>
        <p:spPr>
          <a:xfrm>
            <a:off x="630720" y="1869840"/>
            <a:ext cx="7695720" cy="4038120"/>
          </a:xfrm>
          <a:prstGeom prst="rect">
            <a:avLst/>
          </a:prstGeom>
          <a:noFill/>
          <a:ln w="0">
            <a:noFill/>
          </a:ln>
        </p:spPr>
        <p:txBody>
          <a:bodyPr numCol="1" spcCol="0" anchor="t">
            <a:noAutofit/>
          </a:bodyPr>
          <a:p>
            <a:pPr marL="343080" indent="-343080">
              <a:lnSpc>
                <a:spcPct val="10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Новелла - императивное правило о невозможности зачета в </a:t>
            </a:r>
            <a:r>
              <a:rPr b="1" lang="ru-RU" sz="2200" spc="-1" strike="noStrike">
                <a:solidFill>
                  <a:srgbClr val="000000"/>
                </a:solidFill>
                <a:latin typeface="Arial"/>
                <a:ea typeface="Arial"/>
              </a:rPr>
              <a:t>отношении обязательств с истекшим сроком исковой давности.</a:t>
            </a:r>
            <a:r>
              <a:rPr b="0" lang="ru-RU" sz="2200" spc="-1" strike="noStrike">
                <a:solidFill>
                  <a:srgbClr val="000000"/>
                </a:solidFill>
                <a:latin typeface="Arial"/>
                <a:ea typeface="Arial"/>
              </a:rPr>
              <a:t> В прежней редакции такой зачет был невозможен, только если по заявлению другой стороны к требованию подлежит применению срок исковой давности и этот срок истек. Данное правило нельзя назвать удачным в связи с новой редакцией ст. 206 ГК РФ, в соответствии с которой признание должником долга по прошествии срока давности влечет прерывание срока давности.</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533520"/>
            <a:ext cx="7695720" cy="60408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Иные запреты на зачет</a:t>
            </a:r>
            <a:endParaRPr b="0" lang="ru-RU" sz="3300" spc="-1" strike="noStrike">
              <a:solidFill>
                <a:srgbClr val="000000"/>
              </a:solidFill>
              <a:latin typeface="Arial"/>
            </a:endParaRPr>
          </a:p>
        </p:txBody>
      </p:sp>
      <p:sp>
        <p:nvSpPr>
          <p:cNvPr id="325" name="PlaceHolder 2"/>
          <p:cNvSpPr>
            <a:spLocks noGrp="1"/>
          </p:cNvSpPr>
          <p:nvPr>
            <p:ph/>
          </p:nvPr>
        </p:nvSpPr>
        <p:spPr>
          <a:xfrm>
            <a:off x="570240" y="1137960"/>
            <a:ext cx="7695720" cy="5719680"/>
          </a:xfrm>
          <a:prstGeom prst="rect">
            <a:avLst/>
          </a:prstGeom>
          <a:noFill/>
          <a:ln w="0">
            <a:noFill/>
          </a:ln>
        </p:spPr>
        <p:txBody>
          <a:bodyPr numCol="1" spcCol="0" anchor="t">
            <a:noAutofit/>
          </a:bodyPr>
          <a:p>
            <a:pPr indent="0">
              <a:lnSpc>
                <a:spcPct val="10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Абз. 6 п. 1 ст. 63 ФЗ «О несостоятельности (банкротстве)» с даты вынесения арбитражным судом определения о введении в отношении должника наблюдения не допускается прекращение его денежных обязательств путем зачета встречного однородного требования, если при этом нарушается установленная п. 4 ст. 134 данного закона очередность удовлетворения требований кредиторов (определение ВАС РФ от 12 января 2010 г. № ВАС-17334/10)</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т. 11 ФЗ «О банках и банковской деятельности» оплата уставного капитала кредитной организации при увеличении ее уставного капитала путем зачета требований к кредитной организации невозможна, за исключением денежных требований о выплате объявленных дивидендов в денежной форме. </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ФЗ «Об обществах с ограниченной ответственностью» - установлен запрет на оплату уставного капитала общества с ограниченной ответственностью при увеличении уставного капитала путем зачета требований к обществу. </a:t>
            </a:r>
            <a:endParaRPr b="0" lang="ru-RU" sz="2000" spc="-1" strike="noStrike">
              <a:solidFill>
                <a:srgbClr val="000000"/>
              </a:solidFill>
              <a:latin typeface="Arial"/>
            </a:endParaRPr>
          </a:p>
          <a:p>
            <a:pPr indent="0">
              <a:lnSpc>
                <a:spcPct val="100000"/>
              </a:lnSpc>
              <a:spcBef>
                <a:spcPts val="459"/>
              </a:spcBef>
              <a:buNone/>
              <a:tabLst>
                <a:tab algn="l" pos="0"/>
              </a:tabLst>
            </a:pPr>
            <a:endParaRPr b="0" lang="ru-RU"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endParaRPr b="0" lang="ru-RU" sz="3300" spc="-1" strike="noStrike">
              <a:solidFill>
                <a:srgbClr val="000000"/>
              </a:solidFill>
              <a:latin typeface="Arial"/>
            </a:endParaRPr>
          </a:p>
          <a:p>
            <a:pPr indent="0">
              <a:lnSpc>
                <a:spcPct val="100000"/>
              </a:lnSpc>
              <a:buNone/>
            </a:pPr>
            <a:r>
              <a:rPr b="0" lang="ru-RU" sz="2500" spc="-1" strike="noStrike">
                <a:solidFill>
                  <a:srgbClr val="336666"/>
                </a:solidFill>
                <a:latin typeface="Arial Black"/>
                <a:ea typeface="Arial"/>
              </a:rPr>
              <a:t>Совпадение должника и кредитора в одном лице (ст. 413 ГК РФ)</a:t>
            </a:r>
            <a:endParaRPr b="0" lang="ru-RU" sz="2500" spc="-1" strike="noStrike">
              <a:solidFill>
                <a:srgbClr val="000000"/>
              </a:solidFill>
              <a:latin typeface="Arial"/>
            </a:endParaRPr>
          </a:p>
        </p:txBody>
      </p:sp>
      <p:sp>
        <p:nvSpPr>
          <p:cNvPr id="327" name="PlaceHolder 2"/>
          <p:cNvSpPr>
            <a:spLocks noGrp="1"/>
          </p:cNvSpPr>
          <p:nvPr>
            <p:ph/>
          </p:nvPr>
        </p:nvSpPr>
        <p:spPr>
          <a:xfrm>
            <a:off x="762120" y="1535400"/>
            <a:ext cx="7695720" cy="188532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Такая ситуация возможна в результате наследования или иного правопреемства (ст. 58, 1110 ГК РФ), когда право и корреспондирующая ему обязанность стали принадлежать одному лицу</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Новелла – оговорка – еслииное не установлено законом или не вытекает из существа обязательства</a:t>
            </a:r>
            <a:endParaRPr b="0" lang="ru-RU" sz="2700" spc="-1" strike="noStrike">
              <a:solidFill>
                <a:srgbClr val="000000"/>
              </a:solidFill>
              <a:latin typeface="Arial"/>
            </a:endParaRPr>
          </a:p>
          <a:p>
            <a:pPr marL="343080" indent="-343080">
              <a:lnSpc>
                <a:spcPct val="100000"/>
              </a:lnSpc>
              <a:spcBef>
                <a:spcPts val="281"/>
              </a:spcBef>
              <a:buClr>
                <a:srgbClr val="cccc99"/>
              </a:buClr>
              <a:buSzPct val="70000"/>
              <a:buFont typeface="Wingdings" charset="2"/>
              <a:buChar char=""/>
              <a:tabLst>
                <a:tab algn="l" pos="0"/>
              </a:tabLst>
            </a:pPr>
            <a:r>
              <a:rPr b="0" lang="ru-RU" sz="1400" spc="-1" strike="noStrike">
                <a:solidFill>
                  <a:srgbClr val="000000"/>
                </a:solidFill>
                <a:latin typeface="Arial"/>
                <a:ea typeface="Arial"/>
              </a:rPr>
              <a:t>Пример о государственной гарантии. суд признал Московскую область кредитором по выполненному гарантийному обязательству и должником по оказанию соответствующей данной гарантии целевой финансовой помощи муниципальным образованиям (Постановление Президиума ВАС РФ от 22.04.2014 N 796/14 по делу № А41-46475/2011).</a:t>
            </a:r>
            <a:endParaRPr b="0" lang="ru-RU" sz="1400" spc="-1" strike="noStrike">
              <a:solidFill>
                <a:srgbClr val="000000"/>
              </a:solidFill>
              <a:latin typeface="Arial"/>
            </a:endParaRPr>
          </a:p>
          <a:p>
            <a:pPr marL="343080" indent="-343080">
              <a:lnSpc>
                <a:spcPct val="100000"/>
              </a:lnSpc>
              <a:spcBef>
                <a:spcPts val="281"/>
              </a:spcBef>
              <a:buClr>
                <a:srgbClr val="cccc99"/>
              </a:buClr>
              <a:buSzPct val="70000"/>
              <a:buFont typeface="Wingdings" charset="2"/>
              <a:buChar char=""/>
              <a:tabLst>
                <a:tab algn="l" pos="0"/>
              </a:tabLst>
            </a:pPr>
            <a:r>
              <a:rPr b="0" lang="ru-RU" sz="1400" spc="-1" strike="noStrike">
                <a:solidFill>
                  <a:srgbClr val="000000"/>
                </a:solidFill>
                <a:latin typeface="Arial"/>
                <a:ea typeface="Arial"/>
              </a:rPr>
              <a:t>Определение ВС РФ</a:t>
            </a:r>
            <a:r>
              <a:rPr b="0" lang="fi-FI" sz="1400" spc="-1" strike="noStrike">
                <a:solidFill>
                  <a:srgbClr val="000000"/>
                </a:solidFill>
                <a:latin typeface="Arial"/>
                <a:ea typeface="Arial"/>
              </a:rPr>
              <a:t>от 1 июня 2016 г. N 305-ЭС15-18795</a:t>
            </a:r>
            <a:r>
              <a:rPr b="0" lang="ru-RU" sz="1400" spc="-1" strike="noStrike">
                <a:solidFill>
                  <a:srgbClr val="000000"/>
                </a:solidFill>
                <a:latin typeface="Arial"/>
                <a:ea typeface="Arial"/>
              </a:rPr>
              <a:t>.  Лес сгорел из-за  ошибки военнослужащего</a:t>
            </a:r>
            <a:endParaRPr b="0" lang="ru-RU" sz="1400" spc="-1" strike="noStrike">
              <a:solidFill>
                <a:srgbClr val="000000"/>
              </a:solidFill>
              <a:latin typeface="Arial"/>
            </a:endParaRPr>
          </a:p>
          <a:p>
            <a:pPr indent="0">
              <a:lnSpc>
                <a:spcPct val="100000"/>
              </a:lnSpc>
              <a:spcBef>
                <a:spcPts val="281"/>
              </a:spcBef>
              <a:buNone/>
              <a:tabLst>
                <a:tab algn="l" pos="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евозможность исполнения обязательства</a:t>
            </a:r>
            <a:endParaRPr b="0" lang="ru-RU" sz="3300" spc="-1" strike="noStrike">
              <a:solidFill>
                <a:srgbClr val="000000"/>
              </a:solidFill>
              <a:latin typeface="Arial"/>
            </a:endParaRPr>
          </a:p>
        </p:txBody>
      </p:sp>
      <p:sp>
        <p:nvSpPr>
          <p:cNvPr id="329"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Фактическая – ст. 416 ГК</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Юридическая – ст. 417 ГК</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Общее – не зависит от воли сторон. Находится в одном ряду с нормами п. 2 ст. 401, ст. 451.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6 ГК РФ</a:t>
            </a:r>
            <a:endParaRPr b="0" lang="ru-RU" sz="3300" spc="-1" strike="noStrike">
              <a:solidFill>
                <a:srgbClr val="000000"/>
              </a:solidFill>
              <a:latin typeface="Arial"/>
            </a:endParaRPr>
          </a:p>
        </p:txBody>
      </p:sp>
      <p:sp>
        <p:nvSpPr>
          <p:cNvPr id="331" name="PlaceHolder 2"/>
          <p:cNvSpPr>
            <a:spLocks noGrp="1"/>
          </p:cNvSpPr>
          <p:nvPr>
            <p:ph/>
          </p:nvPr>
        </p:nvSpPr>
        <p:spPr>
          <a:xfrm>
            <a:off x="968040" y="1841040"/>
            <a:ext cx="7695720" cy="4038120"/>
          </a:xfrm>
          <a:prstGeom prst="rect">
            <a:avLst/>
          </a:prstGeom>
          <a:noFill/>
          <a:ln w="0">
            <a:noFill/>
          </a:ln>
        </p:spPr>
        <p:txBody>
          <a:bodyPr numCol="1" spcCol="0" anchor="t">
            <a:noAutofit/>
          </a:bodyPr>
          <a:p>
            <a:pPr indent="0">
              <a:lnSpc>
                <a:spcPct val="100000"/>
              </a:lnSpc>
              <a:spcBef>
                <a:spcPts val="360"/>
              </a:spcBef>
              <a:buNone/>
              <a:tabLst>
                <a:tab algn="l" pos="0"/>
              </a:tabLst>
            </a:pPr>
            <a:r>
              <a:rPr b="0" lang="ru-RU" sz="1800" spc="-1" strike="noStrike">
                <a:solidFill>
                  <a:srgbClr val="000000"/>
                </a:solidFill>
                <a:latin typeface="Arial"/>
                <a:ea typeface="Arial"/>
              </a:rPr>
              <a:t>Причиной возникновения невозможности исполнения ( п. 1 ст. 416 ГК РФ) служат определенные обстоятельства (юридические факты), препятствующие исполнению обязательства и не зависящие от воли сторон, т.е. возникающие в результате случая или непреодолимой силы (ст. 401 ГК РФ). Их наступление свидетельствует об объективной и безусловной невозможности сохранения дальнейших обязательственных отношений, что исключает возможность изменения договора, из которого они вытекают, по правилам ст. 450, 451 ГК РФ (постановление ФАС Дальневосточного округа от 29 апреля 2010 г. № Ф03-2852/2010 по делу № А59-4825/2009).  </a:t>
            </a:r>
            <a:endParaRPr b="0" lang="ru-RU" sz="1800" spc="-1" strike="noStrike">
              <a:solidFill>
                <a:srgbClr val="000000"/>
              </a:solidFill>
              <a:latin typeface="Arial"/>
            </a:endParaRPr>
          </a:p>
          <a:p>
            <a:pPr indent="0">
              <a:lnSpc>
                <a:spcPct val="100000"/>
              </a:lnSpc>
              <a:spcBef>
                <a:spcPts val="360"/>
              </a:spcBef>
              <a:buNone/>
              <a:tabLst>
                <a:tab algn="l" pos="0"/>
              </a:tabLst>
            </a:pPr>
            <a:r>
              <a:rPr b="0" lang="ru-RU" sz="1800" spc="-1" strike="noStrike">
                <a:solidFill>
                  <a:srgbClr val="000000"/>
                </a:solidFill>
                <a:latin typeface="Arial"/>
                <a:ea typeface="Arial"/>
              </a:rPr>
              <a:t>Для прекращения обязательства по ст. 416 ГК РФ достаточно только наступления обстоятельств, создающих невозможность его исполнения</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533520"/>
            <a:ext cx="7695720" cy="48060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имеры</a:t>
            </a:r>
            <a:endParaRPr b="0" lang="ru-RU" sz="3300" spc="-1" strike="noStrike">
              <a:solidFill>
                <a:srgbClr val="000000"/>
              </a:solidFill>
              <a:latin typeface="Arial"/>
            </a:endParaRPr>
          </a:p>
        </p:txBody>
      </p:sp>
      <p:sp>
        <p:nvSpPr>
          <p:cNvPr id="333" name="PlaceHolder 2"/>
          <p:cNvSpPr>
            <a:spLocks noGrp="1"/>
          </p:cNvSpPr>
          <p:nvPr>
            <p:ph/>
          </p:nvPr>
        </p:nvSpPr>
        <p:spPr>
          <a:xfrm>
            <a:off x="614880" y="1169280"/>
            <a:ext cx="7695720" cy="4038120"/>
          </a:xfrm>
          <a:prstGeom prst="rect">
            <a:avLst/>
          </a:prstGeom>
          <a:noFill/>
          <a:ln w="0">
            <a:noFill/>
          </a:ln>
        </p:spPr>
        <p:txBody>
          <a:bodyPr numCol="1" spcCol="0" anchor="t">
            <a:noAutofit/>
          </a:bodyPr>
          <a:p>
            <a:pPr indent="0">
              <a:lnSpc>
                <a:spcPct val="100000"/>
              </a:lnSpc>
              <a:spcBef>
                <a:spcPts val="320"/>
              </a:spcBef>
              <a:buNone/>
              <a:tabLst>
                <a:tab algn="l" pos="0"/>
              </a:tabLst>
            </a:pPr>
            <a:r>
              <a:rPr b="0" lang="ru-RU" sz="1600" spc="-1" strike="noStrike">
                <a:solidFill>
                  <a:srgbClr val="000000"/>
                </a:solidFill>
                <a:latin typeface="Arial"/>
                <a:ea typeface="Arial"/>
              </a:rPr>
              <a:t>По правилам ст. 416 ГК РФ в частности прекращается обязательство продавца (изготовителя, уполномоченной организации или уполномоченного индивидуального предпринимателя, импортера) в части замены товара с недостатками на товар той же марки (модели, артикула), если такой товар уже снят с производства либо прекращены его поставки и т.п. (п. 40 постановления Пленума Верховного Суда РФ от 28 июня 2012 № 17 «О рассмотрении судами гражданских дел по спорам о защите прав потребителей»), при отсутствии или недостаточности наследственного имущества (п. 60 постановления Пленума Верховного Суда РФ от 29 мая 2012 г. № 9 «О судебной практике по делам о наследовании»), при фактическом отсутствии имущества в связи с его уничтожением (постановление Четырнадцатого арбитражного апелляционного суда от 30 марта 2010 г. по делу № А44-4022/2009). </a:t>
            </a:r>
            <a:endParaRPr b="0" lang="ru-RU" sz="1600" spc="-1" strike="noStrike">
              <a:solidFill>
                <a:srgbClr val="000000"/>
              </a:solidFill>
              <a:latin typeface="Arial"/>
            </a:endParaRPr>
          </a:p>
          <a:p>
            <a:pPr indent="0">
              <a:lnSpc>
                <a:spcPct val="100000"/>
              </a:lnSpc>
              <a:spcBef>
                <a:spcPts val="621"/>
              </a:spcBef>
              <a:buNone/>
              <a:tabLst>
                <a:tab algn="l" pos="0"/>
              </a:tabLst>
            </a:pPr>
            <a:r>
              <a:rPr b="0" lang="ru-RU" sz="1600" spc="-1" strike="noStrike">
                <a:solidFill>
                  <a:srgbClr val="000000"/>
                </a:solidFill>
                <a:latin typeface="Arial"/>
                <a:ea typeface="Arial"/>
              </a:rPr>
              <a:t>как правило, не прекращается обязательство в случае гибели вещей, определяемых</a:t>
            </a:r>
            <a:r>
              <a:rPr b="0" lang="ru-RU" sz="3100" spc="-1" strike="noStrike">
                <a:solidFill>
                  <a:srgbClr val="000000"/>
                </a:solidFill>
                <a:latin typeface="Arial"/>
                <a:ea typeface="Arial"/>
              </a:rPr>
              <a:t> </a:t>
            </a:r>
            <a:r>
              <a:rPr b="0" lang="ru-RU" sz="1600" spc="-1" strike="noStrike">
                <a:solidFill>
                  <a:srgbClr val="000000"/>
                </a:solidFill>
                <a:latin typeface="Arial"/>
                <a:ea typeface="Arial"/>
              </a:rPr>
              <a:t>родовыми признаками, так как практически невозможно доказать их полное отсутствие в обороте (genera non pereunt – род никогда не погибает). По ст. 416 не прекращаются денежные обязательства </a:t>
            </a:r>
            <a:endParaRPr b="0" lang="ru-RU" sz="16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570240" y="259920"/>
            <a:ext cx="7695720" cy="4038120"/>
          </a:xfrm>
          <a:prstGeom prst="rect">
            <a:avLst/>
          </a:prstGeom>
          <a:noFill/>
          <a:ln w="0">
            <a:noFill/>
          </a:ln>
        </p:spPr>
        <p:txBody>
          <a:bodyPr numCol="1" spcCol="0" anchor="t">
            <a:noAutofit/>
          </a:bodyPr>
          <a:p>
            <a:pPr marL="343080" indent="-343080">
              <a:lnSpc>
                <a:spcPct val="100000"/>
              </a:lnSpc>
              <a:spcBef>
                <a:spcPts val="581"/>
              </a:spcBef>
              <a:buClr>
                <a:srgbClr val="cccc99"/>
              </a:buClr>
              <a:buSzPct val="70000"/>
              <a:buFont typeface="Wingdings" charset="2"/>
              <a:buChar char=""/>
            </a:pPr>
            <a:r>
              <a:rPr b="0" lang="ru-RU" sz="2900" spc="-1" strike="noStrike">
                <a:solidFill>
                  <a:srgbClr val="000000"/>
                </a:solidFill>
                <a:latin typeface="Arial"/>
                <a:ea typeface="Arial"/>
              </a:rPr>
              <a:t>Новой редакцией ст. 416 ГК РФ предусмотрено, что такие обстоятельства наступили после возникновения обязательства, в том числе наступившей впоследствии неспособности должника к исполнению.</a:t>
            </a:r>
            <a:endParaRPr b="0" lang="ru-RU" sz="2900" spc="-1" strike="noStrike">
              <a:solidFill>
                <a:srgbClr val="000000"/>
              </a:solidFill>
              <a:latin typeface="Arial"/>
            </a:endParaRPr>
          </a:p>
          <a:p>
            <a:pPr marL="343080" indent="-343080">
              <a:lnSpc>
                <a:spcPct val="100000"/>
              </a:lnSpc>
              <a:spcBef>
                <a:spcPts val="581"/>
              </a:spcBef>
              <a:buClr>
                <a:srgbClr val="cccc99"/>
              </a:buClr>
              <a:buSzPct val="70000"/>
              <a:buFont typeface="Wingdings" charset="2"/>
              <a:buChar char=""/>
            </a:pPr>
            <a:r>
              <a:rPr b="0" lang="ru-RU" sz="2900" spc="-1" strike="noStrike">
                <a:solidFill>
                  <a:srgbClr val="000000"/>
                </a:solidFill>
                <a:latin typeface="Arial"/>
                <a:ea typeface="Arial"/>
              </a:rPr>
              <a:t>В пункте 2 ст. 416 ГК РФ установлена санкция за виновные действия кредитора, вследствие которых стало невозможным исполнение (ст. 404, 406 ГК РФ): кредитору не возвращается исполненное по взаимному обязательству. </a:t>
            </a:r>
            <a:endParaRPr b="0" lang="ru-RU" sz="29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Юридическая невозможность исполнения. Статья 417 ГК РФ </a:t>
            </a:r>
            <a:endParaRPr b="0" lang="ru-RU" sz="3300" spc="-1" strike="noStrike">
              <a:solidFill>
                <a:srgbClr val="000000"/>
              </a:solidFill>
              <a:latin typeface="Arial"/>
            </a:endParaRPr>
          </a:p>
        </p:txBody>
      </p:sp>
      <p:sp>
        <p:nvSpPr>
          <p:cNvPr id="33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479"/>
              </a:spcBef>
              <a:buNone/>
              <a:tabLst>
                <a:tab algn="l" pos="0"/>
              </a:tabLst>
            </a:pPr>
            <a:r>
              <a:rPr b="0" lang="ru-RU" sz="2400" spc="-1" strike="noStrike">
                <a:solidFill>
                  <a:srgbClr val="000000"/>
                </a:solidFill>
                <a:latin typeface="Arial"/>
                <a:ea typeface="Arial"/>
              </a:rPr>
              <a:t>Акты государственных и муниципальных органов, повлекшие прекращение обязательств могут быть нормативными и ненормативными. В судебной практике был сделан вывод, что постановления судебного пристава-исполнителя, принятые в рамках исполнительных производств по другим обязательствам должника, не являются актами государственного органа (постановление ФАС Московского округа от 22 сентября 2005 г. № КГ-А40/8748-05).</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1800" spc="-1" strike="noStrike">
                <a:solidFill>
                  <a:srgbClr val="336666"/>
                </a:solidFill>
                <a:latin typeface="Arial Black"/>
                <a:ea typeface="Arial"/>
              </a:rPr>
              <a:t>Принцип недопустимости извлечения преимуществ из своего незаконного или недобросовестного поведения в судебной практике</a:t>
            </a:r>
            <a:endParaRPr b="0" lang="ru-RU" sz="1800" spc="-1" strike="noStrike">
              <a:solidFill>
                <a:srgbClr val="000000"/>
              </a:solidFill>
              <a:latin typeface="Arial"/>
            </a:endParaRPr>
          </a:p>
        </p:txBody>
      </p:sp>
      <p:sp>
        <p:nvSpPr>
          <p:cNvPr id="19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ерховного Суда РФ от 23.06.2015 N 25 "О применении судами некоторых положений раздела I части первой Гражданского кодекса Российской Федерации«</a:t>
            </a:r>
            <a:endParaRPr b="0" lang="ru-RU" sz="1500" spc="-1" strike="noStrike">
              <a:solidFill>
                <a:srgbClr val="000000"/>
              </a:solidFill>
              <a:latin typeface="Arial"/>
            </a:endParaRPr>
          </a:p>
          <a:p>
            <a:pPr marL="343080" indent="-343080">
              <a:lnSpc>
                <a:spcPct val="10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ерховного Суда РФ от 24.03.2016 N 7 "О применении судами некоторых положений Гражданского кодекса Российской Федерации об ответственности за нарушение обязательств"</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7 ноября 2011 г. № 73 «Об отдельных вопросах практики применения правил Гражданского кодекса Российской Федерации о договоре аренды» (в ред. Постановлений Пленума ВАС РФ от 25.01.2013 N 13, от 25.12.2013 N 98)</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я Президиума ВАС РФ от 28 мая 2013 г. № 18045/12, от 4 июня 2013 г. № 37/13; пункт 7 Обзора практики рассмотрения арбитражными споров, связанных с признанием договоров незаключенными (информационное письмо Президиума ВАС РФ от 25 февраля 2014 г. № 165)</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4 марта 2014 г. № 16 «О свободе договора и ее пределах» (пункт 9)</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4 марта 2014 г. № 17 «Об отдельных вопросах, связанных с договором выкупного лизинга» (пункт 3.1)</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Определение ВС РФ от 29 марта 2016 г. # 83-КГ16-2 ("дело Медведя")</a:t>
            </a: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7</a:t>
            </a:r>
            <a:endParaRPr b="0" lang="ru-RU" sz="3300" spc="-1" strike="noStrike">
              <a:solidFill>
                <a:srgbClr val="000000"/>
              </a:solidFill>
              <a:latin typeface="Arial"/>
            </a:endParaRPr>
          </a:p>
        </p:txBody>
      </p:sp>
      <p:sp>
        <p:nvSpPr>
          <p:cNvPr id="33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 прекращает обязательства и не освобождает должника от его исполнения принятие акта органа государственной власти в связи с неправомерными действиями должника, например, отзыв лицензии (п. 5 Информационного письма Президиума ВАС РФ от 21 декабря 2005 г.   № 104).</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ункт 3 ст. 417 ГК РФ</a:t>
            </a:r>
            <a:endParaRPr b="0" lang="ru-RU" sz="3300" spc="-1" strike="noStrike">
              <a:solidFill>
                <a:srgbClr val="000000"/>
              </a:solidFill>
              <a:latin typeface="Arial"/>
            </a:endParaRPr>
          </a:p>
        </p:txBody>
      </p:sp>
      <p:sp>
        <p:nvSpPr>
          <p:cNvPr id="340" name="PlaceHolder 2"/>
          <p:cNvSpPr>
            <a:spLocks noGrp="1"/>
          </p:cNvSpPr>
          <p:nvPr>
            <p:ph/>
          </p:nvPr>
        </p:nvSpPr>
        <p:spPr>
          <a:xfrm>
            <a:off x="433080" y="1863720"/>
            <a:ext cx="7695720" cy="403812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дусматривает, что в случае признания в установленном порядке недействительным акта государственного или муниципального органа, на основании которого обязательство прекратилось, обязательство не считается прекращенным.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 отличие от прежней редакции комментируемой статьи имеет место юридическая фикция не восстановления («воскресания») обязательства при сохранении интереса сторон, а непрекращения обязательства, которая действует не только на случай недействительности акта, но и его отмены, если договор ранее не был расторгнут кредитором. Иначе говоря, при наступлении оснований, предусмотренных комментируемой статьей, обязательство не прекращается, пока кредитор не отказался от договора (расторг его). Обязательство прекращается также в случаях, предусмотренных законом, а также когда это вытекает из его существа</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800" spc="-1" strike="noStrike">
                <a:solidFill>
                  <a:srgbClr val="336666"/>
                </a:solidFill>
                <a:latin typeface="Arial Black"/>
                <a:ea typeface="Arial"/>
              </a:rPr>
              <a:t>Прекращение обязательства смертью гражданина (ст. 418 ГК РФ)</a:t>
            </a:r>
            <a:endParaRPr b="0" lang="ru-RU" sz="2800" spc="-1" strike="noStrike">
              <a:solidFill>
                <a:srgbClr val="000000"/>
              </a:solidFill>
              <a:latin typeface="Arial"/>
            </a:endParaRPr>
          </a:p>
        </p:txBody>
      </p:sp>
      <p:sp>
        <p:nvSpPr>
          <p:cNvPr id="342"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По общему правилу смерть гражданина не прекращает обязательство. Долги включаются в наследство и переходят к наследникам умершего (ст. 1112 ГК РФ), которые в случае принятия наследства отвечают по его обязательствам солидарно в пределах стоимости наследственного имущества (ст. 1175 ГК РФ).</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 личных обязательствах</a:t>
            </a:r>
            <a:endParaRPr b="0" lang="ru-RU" sz="3300" spc="-1" strike="noStrike">
              <a:solidFill>
                <a:srgbClr val="000000"/>
              </a:solidFill>
              <a:latin typeface="Arial"/>
            </a:endParaRPr>
          </a:p>
        </p:txBody>
      </p:sp>
      <p:sp>
        <p:nvSpPr>
          <p:cNvPr id="34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кращению по норме ст. 418 ГК РФ подлежат только обязательства личного характера. Их примерный перечень содержится в п. 14 постановления Пленума Верховного Суда РФ от 29 мая 2012 г. № 9 «О судебной практике по делам о наследовании»: алиментные обязательства (разд. V Семейного кодекса РФ), обязательства, возникшие из договоров безвозмездного пользования (ст. 701 ГК РФ), поручения (п.1 ст. 977 ГК РФ), комиссии (часть первая ст. 1003 ГК РФ), агентского договора (ст. 1010 ГК РФ). Кроме того, личными являются обязательства из договоров возмездного оказания услуг (ст. 780 ГК РФ), выполнения научно-исследовательских работ (ст. 770 ГК РФ), авторского заказа (ст. 1288 ГК РФ) и создании иных результатов творческой деятельности. В других договорах можно оговорить личное исполнение (см., например, п. 2 ст. 617, ст. 706,  805 ГК РФ) и тем самым препятствовать правопреемству.</a:t>
            </a:r>
            <a:endParaRPr b="0" lang="ru-RU" sz="1600" spc="-1" strike="noStrike">
              <a:solidFill>
                <a:srgbClr val="000000"/>
              </a:solidFill>
              <a:latin typeface="Arial"/>
            </a:endParaRPr>
          </a:p>
          <a:p>
            <a:pPr indent="0">
              <a:lnSpc>
                <a:spcPct val="100000"/>
              </a:lnSpc>
              <a:spcBef>
                <a:spcPts val="320"/>
              </a:spcBef>
              <a:buNone/>
            </a:pP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700" spc="-1" strike="noStrike">
                <a:solidFill>
                  <a:srgbClr val="336666"/>
                </a:solidFill>
                <a:latin typeface="Arial Black"/>
                <a:ea typeface="Arial"/>
              </a:rPr>
              <a:t>О прекращении личных обязательств </a:t>
            </a:r>
            <a:endParaRPr b="0" lang="ru-RU" sz="2700" spc="-1" strike="noStrike">
              <a:solidFill>
                <a:srgbClr val="000000"/>
              </a:solidFill>
              <a:latin typeface="Arial"/>
            </a:endParaRPr>
          </a:p>
        </p:txBody>
      </p:sp>
      <p:sp>
        <p:nvSpPr>
          <p:cNvPr id="346" name="PlaceHolder 2"/>
          <p:cNvSpPr>
            <a:spLocks noGrp="1"/>
          </p:cNvSpPr>
          <p:nvPr>
            <p:ph/>
          </p:nvPr>
        </p:nvSpPr>
        <p:spPr>
          <a:xfrm>
            <a:off x="762120" y="16765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уммы задолженности по алиментам и возмещению вреда жизни и здоровью, установленные решением суда, включаются в наследственную массу </a:t>
            </a:r>
            <a:endParaRPr b="0" lang="ru-RU" sz="31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pPr>
            <a:r>
              <a:rPr b="0" lang="ru-RU" sz="2500" spc="-1" strike="noStrike">
                <a:solidFill>
                  <a:srgbClr val="000000"/>
                </a:solidFill>
                <a:latin typeface="Arial"/>
                <a:ea typeface="Arial"/>
              </a:rPr>
              <a:t>П.22 проекта ППВС - Из существа денежного обязательства следует, что оно может быть исполнено третьим лицом и в том случае, когда его возникновение связано с личностью должника, например уплата долга по алиментам.</a:t>
            </a:r>
            <a:endParaRPr b="0" lang="ru-RU" sz="25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endParaRPr b="0" lang="ru-RU" sz="2400" spc="-1" strike="noStrike">
              <a:solidFill>
                <a:srgbClr val="000000"/>
              </a:solidFill>
              <a:latin typeface="Arial"/>
            </a:endParaRPr>
          </a:p>
          <a:p>
            <a:pPr indent="0">
              <a:lnSpc>
                <a:spcPct val="100000"/>
              </a:lnSpc>
              <a:buNone/>
            </a:pPr>
            <a:r>
              <a:rPr b="0" lang="ru-RU" sz="2400" spc="-1" strike="noStrike">
                <a:solidFill>
                  <a:srgbClr val="336666"/>
                </a:solidFill>
                <a:latin typeface="Arial Black"/>
                <a:ea typeface="Arial"/>
              </a:rPr>
              <a:t>Прекращение обязательства ликвидацией юридического лица (ст. 419 ГК)</a:t>
            </a:r>
            <a:endParaRPr b="0" lang="ru-RU" sz="2400" spc="-1" strike="noStrike">
              <a:solidFill>
                <a:srgbClr val="000000"/>
              </a:solidFill>
              <a:latin typeface="Arial"/>
            </a:endParaRPr>
          </a:p>
        </p:txBody>
      </p:sp>
      <p:sp>
        <p:nvSpPr>
          <p:cNvPr id="348" name="PlaceHolder 2"/>
          <p:cNvSpPr>
            <a:spLocks noGrp="1"/>
          </p:cNvSpPr>
          <p:nvPr>
            <p:ph/>
          </p:nvPr>
        </p:nvSpPr>
        <p:spPr>
          <a:xfrm>
            <a:off x="883800" y="2090520"/>
            <a:ext cx="7695720" cy="4038120"/>
          </a:xfrm>
          <a:prstGeom prst="rect">
            <a:avLst/>
          </a:prstGeom>
          <a:noFill/>
          <a:ln w="0">
            <a:noFill/>
          </a:ln>
        </p:spPr>
        <p:txBody>
          <a:bodyPr numCol="1" spcCol="0" anchor="t">
            <a:noAutofit/>
          </a:bodyPr>
          <a:p>
            <a:pPr indent="0">
              <a:lnSpc>
                <a:spcPct val="100000"/>
              </a:lnSpc>
              <a:spcBef>
                <a:spcPts val="281"/>
              </a:spcBef>
              <a:buNone/>
              <a:tabLst>
                <a:tab algn="l" pos="0"/>
              </a:tabLst>
            </a:pPr>
            <a:r>
              <a:rPr b="0" lang="ru-RU" sz="1400" spc="-1" strike="noStrike">
                <a:solidFill>
                  <a:srgbClr val="000000"/>
                </a:solidFill>
                <a:latin typeface="Arial"/>
                <a:ea typeface="Arial"/>
              </a:rPr>
              <a:t>Исключение -  п. 2 ст. 1093 ГК РФ в случае ликвидации юридического лица, признанного в установленном порядке ответственным за вред, причиненный жизни или здоровью, соответствующие платежи должны быть капитализированы для выплаты их потерпевшему по правилам, установленным законом или иными правовыми актами -  ст. 135 Федерального закона «О несостоятельности (банкротстве)»</a:t>
            </a:r>
            <a:endParaRPr b="0" lang="ru-RU" sz="1400" spc="-1" strike="noStrike">
              <a:solidFill>
                <a:srgbClr val="000000"/>
              </a:solidFill>
              <a:latin typeface="Arial"/>
            </a:endParaRPr>
          </a:p>
          <a:p>
            <a:pPr indent="0">
              <a:lnSpc>
                <a:spcPct val="100000"/>
              </a:lnSpc>
              <a:spcBef>
                <a:spcPts val="281"/>
              </a:spcBef>
              <a:buNone/>
              <a:tabLst>
                <a:tab algn="l" pos="0"/>
              </a:tabLst>
            </a:pPr>
            <a:r>
              <a:rPr b="0" lang="ru-RU" sz="1400" spc="-1" strike="noStrike">
                <a:solidFill>
                  <a:srgbClr val="000000"/>
                </a:solidFill>
                <a:latin typeface="Arial"/>
                <a:ea typeface="Arial"/>
              </a:rPr>
              <a:t>Если кредитор не является застрахованным, то с его согласия право требования переходит к Российской Федерации и подлежит удовлетворению в первую очередь: сумма капитализированных платежей подлежит взысканию с Министерства финансов РФ за счет средств казны Российской Федерации (постановление Пленума ВАС РФ от 30 ноября 2006 г. № 57 «О некоторых вопросах установления в деле о банкротстве требований о выплате капитализированных платежей»; постановление Пленума ВАС РФ от 15 декабря 2004 г. № 29 «О некоторых вопросах практики применения Федерального закона “О несостоятельности (банкротстве)”»)</a:t>
            </a:r>
            <a:endParaRPr b="0" lang="ru-RU" sz="1400" spc="-1" strike="noStrike">
              <a:solidFill>
                <a:srgbClr val="000000"/>
              </a:solidFill>
              <a:latin typeface="Arial"/>
            </a:endParaRPr>
          </a:p>
          <a:p>
            <a:pPr indent="0">
              <a:lnSpc>
                <a:spcPct val="100000"/>
              </a:lnSpc>
              <a:spcBef>
                <a:spcPts val="281"/>
              </a:spcBef>
              <a:buNone/>
              <a:tabLst>
                <a:tab algn="l" pos="0"/>
              </a:tabLst>
            </a:pPr>
            <a:r>
              <a:rPr b="0" lang="ru-RU" sz="1400" spc="-1" strike="noStrike">
                <a:solidFill>
                  <a:srgbClr val="000000"/>
                </a:solidFill>
                <a:latin typeface="Arial"/>
                <a:ea typeface="Arial"/>
              </a:rPr>
              <a:t>Следует иметь в виду, что обязательства по выплате сумм, назначенных в возмещение вреда, причиненного здоровью потерпевшего, переходят с его согласия к Российской Федерации в неизменном виде, то есть в виде повременных платежей и должны производиться ежемесячно, а не единовременно (определение Верховного Суда РФ от 10 февраля 2012 г.       № 10-В11-17).</a:t>
            </a:r>
            <a:endParaRPr b="0" lang="ru-RU" sz="1400" spc="-1" strike="noStrike">
              <a:solidFill>
                <a:srgbClr val="000000"/>
              </a:solidFill>
              <a:latin typeface="Arial"/>
            </a:endParaRPr>
          </a:p>
          <a:p>
            <a:pPr indent="0">
              <a:lnSpc>
                <a:spcPct val="100000"/>
              </a:lnSpc>
              <a:spcBef>
                <a:spcPts val="281"/>
              </a:spcBef>
              <a:buNone/>
              <a:tabLst>
                <a:tab algn="l" pos="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9</a:t>
            </a:r>
            <a:endParaRPr b="0" lang="ru-RU" sz="3300" spc="-1" strike="noStrike">
              <a:solidFill>
                <a:srgbClr val="000000"/>
              </a:solidFill>
              <a:latin typeface="Arial"/>
            </a:endParaRPr>
          </a:p>
        </p:txBody>
      </p:sp>
      <p:sp>
        <p:nvSpPr>
          <p:cNvPr id="35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С момента завершения ликвидации кредиторы юридического лица, не заявившие своих требований в процессе ликвидации, утрачивают право удовлетворения таких требований за счет тех лиц, которые несут субсидиарную ответственность по обязательствам юридического лица (Информационное письмо Президиума ВАС РФ от 21 декабря 2005 г. № 104).</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На оставшееся после ликвидации юридического лица имущество вправе претендовать его участники, в том числе на денежные средства, оставшиеся на банковском счете уже ликвидированной организации (постановление ФАС Московского округа от 28 апреля 2011 г.  № КГ-А40/3403-11 по делу № А40-126410/10-10-907).</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ОПРЕДЕЛЕНИЕ ВС РФ </a:t>
            </a:r>
            <a:r>
              <a:rPr b="0" lang="is-IS" sz="2000" spc="-1" strike="noStrike">
                <a:solidFill>
                  <a:srgbClr val="000000"/>
                </a:solidFill>
                <a:latin typeface="Arial"/>
                <a:ea typeface="Arial"/>
              </a:rPr>
              <a:t>от 23 мая 2016 г. N 81-КГ16-6</a:t>
            </a:r>
            <a:r>
              <a:rPr b="0" lang="ru-RU" sz="2000" spc="-1" strike="noStrike">
                <a:solidFill>
                  <a:srgbClr val="000000"/>
                </a:solidFill>
                <a:latin typeface="Arial"/>
                <a:ea typeface="Arial"/>
              </a:rPr>
              <a:t> (капитализаци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ПРЕКРАЩЕНИЕ ОБЯЗАТЕЛЬСТВА</a:t>
            </a:r>
            <a:endParaRPr b="0" lang="ru-RU" sz="2900" spc="-1" strike="noStrike">
              <a:solidFill>
                <a:srgbClr val="000000"/>
              </a:solidFill>
              <a:latin typeface="Arial"/>
            </a:endParaRPr>
          </a:p>
        </p:txBody>
      </p:sp>
      <p:sp>
        <p:nvSpPr>
          <p:cNvPr id="35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Аннуитетный платеж – возврат уплаченных процентов при досрочном погашении кредита</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Судебная коллегия по гражданским делам Определение от 23.12.2014 по делу № 83-КГ14-9.</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С РФ усмотрел здесь незаконное взимание процентов за период, в котором пользование суммой займа не осуществлялось. Договорное условие о невозможности перерасчета процентов при досрочном погашении кредита суд счел нарушающим права потребителя (п. 1 ст. 16 Закона о защите прав потребителей). «Банк в нарушение названной нормы ущемил право истца на возврат ему излишне уплаченных процентов при досрочном погашении займа, учитывая, что возможность вернуть долг до истечения срока действия договора – безусловное право заемщика», — указала коллегия. Дело направлено на новое рассмотрение в суд апелляционной инстанции.</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 последнего времени в судах общей юрисдикции складывалась противоположная практика. ВАС РФ ранее придерживался другого подхода - п. 5 Информационного письма Президиума ВАС от 13 сентября 2011 года № 147, где рассматривался аналогичный спор между банком и индивидуальным предпринимателем. ВАС разъяснил, что в таких случаях надо пересчитывать размер уплаченных процентов.</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520" y="457200"/>
            <a:ext cx="8229240" cy="380520"/>
          </a:xfrm>
          <a:prstGeom prst="rect">
            <a:avLst/>
          </a:prstGeom>
          <a:noFill/>
          <a:ln w="0">
            <a:noFill/>
          </a:ln>
        </p:spPr>
        <p:txBody>
          <a:bodyPr numCol="1" spcCol="0" anchor="b">
            <a:noAutofit/>
          </a:bodyPr>
          <a:p>
            <a:pPr indent="0">
              <a:lnSpc>
                <a:spcPct val="100000"/>
              </a:lnSpc>
              <a:buNone/>
            </a:pPr>
            <a:r>
              <a:rPr b="0" lang="ru-RU" sz="1000" spc="-1" strike="noStrike">
                <a:solidFill>
                  <a:srgbClr val="336666"/>
                </a:solidFill>
                <a:latin typeface="Arial Black"/>
                <a:ea typeface="Arial"/>
              </a:rPr>
              <a:t>ПРЕКРАЩЕНИЕ ОБЯЗАТЕЛЬСТВА</a:t>
            </a:r>
            <a:endParaRPr b="0" lang="ru-RU" sz="1000" spc="-1" strike="noStrike">
              <a:solidFill>
                <a:srgbClr val="000000"/>
              </a:solidFill>
              <a:latin typeface="Arial"/>
            </a:endParaRPr>
          </a:p>
        </p:txBody>
      </p:sp>
      <p:sp>
        <p:nvSpPr>
          <p:cNvPr id="354" name="PlaceHolder 2"/>
          <p:cNvSpPr>
            <a:spLocks noGrp="1"/>
          </p:cNvSpPr>
          <p:nvPr>
            <p:ph/>
          </p:nvPr>
        </p:nvSpPr>
        <p:spPr>
          <a:xfrm>
            <a:off x="457200" y="1295280"/>
            <a:ext cx="8229240" cy="5135040"/>
          </a:xfrm>
          <a:prstGeom prst="rect">
            <a:avLst/>
          </a:prstGeom>
          <a:noFill/>
          <a:ln w="0">
            <a:noFill/>
          </a:ln>
        </p:spPr>
        <p:txBody>
          <a:bodyPr numCol="1" spcCol="0" anchor="t">
            <a:noAutofit/>
          </a:bodyPr>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о основанию наличия уведомление залогодержателем о снятии обременения</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ОПРЕДЕЛЕНИЕ от 2 декабря 2014 г. N 5-КГ14-121. </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u="sng">
                <a:solidFill>
                  <a:srgbClr val="000000"/>
                </a:solidFill>
                <a:uFillTx/>
                <a:latin typeface="Arial"/>
                <a:ea typeface="Arial"/>
              </a:rPr>
              <a:t>Сам по себе факт прекращения ипотеки не свидетельствует об исполнении ответчиком обязательств по кредитному договору. Но в данном случае отказ Банку</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Аргументы суда кратко выглядят так:</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1. Ипотека возникла в силу закона, и исчерпывающий перечень оснований для ее прекращения  содержится в ст. 352 ГК и ст. 34 Закона РФ от 29 мая 1992 года «О залоге» (действовала на момент возникновения спорных правоотношений).</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2. Исходя из исчерпывающего перечня, ипотека в рассматриваемом случае могла прекратиться только с связи с прекращением основного обязательства.</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3. Снять залоговое обременение с квартиры заемщика просил банк в лице уполномоченного сотрудника, действия которого не оспаривались и не признаны неправомерными.</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4. Запись о прекращении залога была внесена в ЕГРП на основании совместного заявления залогодателя и залогодержателя с соблюдением установленного порядка.</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5. Принцип добросовестности и правила защиты слабой стороны, а также применение закона «О защите прав потребителей» возлагают бремя доказывания факта непогашения кредита на банк. Заемщик не должен доказывать, что он погасил кредит.</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6. Суд должен оказывать заемщику содействие в «собирании доказательств, которые могли бы подтвердить факт выплаты им денежных средств по кредиту».</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Похожая практика в арбитражных судах ПОСТАНОВЛЕНИЕ ПВАС от 21 июня 2011 г. N 2150/11</a:t>
            </a: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533520"/>
            <a:ext cx="7695720" cy="410760"/>
          </a:xfrm>
          <a:prstGeom prst="rect">
            <a:avLst/>
          </a:prstGeom>
          <a:noFill/>
          <a:ln w="0">
            <a:noFill/>
          </a:ln>
        </p:spPr>
        <p:txBody>
          <a:bodyPr numCol="1" spcCol="0" anchor="b">
            <a:noAutofit/>
          </a:bodyPr>
          <a:p>
            <a:pPr indent="0">
              <a:lnSpc>
                <a:spcPct val="100000"/>
              </a:lnSpc>
              <a:buNone/>
            </a:pPr>
            <a:r>
              <a:rPr b="0" lang="ru-RU" sz="1200" spc="-1" strike="noStrike">
                <a:solidFill>
                  <a:srgbClr val="336666"/>
                </a:solidFill>
                <a:latin typeface="Arial Black"/>
                <a:ea typeface="Arial"/>
              </a:rPr>
              <a:t>Прекращение обязательств</a:t>
            </a:r>
            <a:endParaRPr b="0" lang="ru-RU" sz="1200" spc="-1" strike="noStrike">
              <a:solidFill>
                <a:srgbClr val="000000"/>
              </a:solidFill>
              <a:latin typeface="Arial"/>
            </a:endParaRPr>
          </a:p>
        </p:txBody>
      </p:sp>
      <p:sp>
        <p:nvSpPr>
          <p:cNvPr id="356" name="PlaceHolder 2"/>
          <p:cNvSpPr>
            <a:spLocks noGrp="1"/>
          </p:cNvSpPr>
          <p:nvPr>
            <p:ph/>
          </p:nvPr>
        </p:nvSpPr>
        <p:spPr>
          <a:xfrm>
            <a:off x="457200" y="914400"/>
            <a:ext cx="8229240" cy="5486040"/>
          </a:xfrm>
          <a:prstGeom prst="rect">
            <a:avLst/>
          </a:prstGeom>
          <a:noFill/>
          <a:ln w="0">
            <a:noFill/>
          </a:ln>
        </p:spPr>
        <p:txBody>
          <a:bodyPr numCol="1" spcCol="0" anchor="t">
            <a:noAutofit/>
          </a:bodyPr>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роблема валютных кредитов – значительная часть долга – курсовая разница вследствие обесценения рубля.</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 </a:t>
            </a:r>
            <a:r>
              <a:rPr b="0" lang="ru-RU" sz="1400" spc="-1" strike="noStrike">
                <a:solidFill>
                  <a:srgbClr val="000000"/>
                </a:solidFill>
                <a:latin typeface="Arial"/>
                <a:ea typeface="Arial"/>
              </a:rPr>
              <a:t>п. 4 ст. 61 ФЗ Об ипотеке. </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Ст. 61. п. 5. Если залогодержатель в порядке, установленном настоящим Федеральным законом, оставляет за собой предмет ипотеки, которым является принадлежащее залогодателю жилое помещение, а стоимости жилого помещения недостаточно для полного удовлетворения требований залогодержателя, задолженность по обеспеченному ипотекой обязательству считается погашенной и обеспеченное ипотекой обязательство прекращается. Задолженность по обеспеченному ипотекой обязательству считается погашенной, если размер обеспеченного ипотекой обязательства меньше или равен стоимости заложенного имущества, определенной на момент возникновения ипотеки.</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 5 в ред. Федерального </a:t>
            </a:r>
            <a:r>
              <a:rPr b="0" lang="ru-RU" sz="1400" spc="-1" strike="noStrike" u="sng">
                <a:solidFill>
                  <a:srgbClr val="99cc00"/>
                </a:solidFill>
                <a:uFillTx/>
                <a:latin typeface="Arial"/>
                <a:ea typeface="Arial"/>
                <a:hlinkClick r:id="rId1"/>
              </a:rPr>
              <a:t>закона</a:t>
            </a:r>
            <a:r>
              <a:rPr b="0" lang="ru-RU" sz="1400" spc="-1" strike="noStrike">
                <a:solidFill>
                  <a:srgbClr val="000000"/>
                </a:solidFill>
                <a:latin typeface="Arial"/>
                <a:ea typeface="Arial"/>
              </a:rPr>
              <a:t> от 23.06.2014 N 169-ФЗ)</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Если предметом ипотеки, на который обращается взыскание, является принадлежащее залогодателю - физическому лицу жилое помещение, переданное в ипотеку в обеспечение исполнения заемщиком - физическим лицом обязательств по возврату кредита или займа, предоставленных для целей приобретения жилого помещения, обязательства такого заемщика - физического лица перед кредитором-залогодержателем прекращаются, когда вырученных от реализации предмета ипотеки денежных средств либо стоимости оставленного залогодержателем за собой предмета ипотеки оказалось недостаточно для удовлетворения всех денежных требований кредитора-залогодержателя, с даты получения кредитором-залогодержателем страховой выплаты по договору страхования ответственности заемщика и (или) по договору страхования финансового риска кредитора. При этом в случае признания страховщика банкротом обязательства заемщика - физического лица перед кредитором-залогодержателем прекращаются с даты реализации предмета ипотеки и (или) оставления кредитором-залогодержателем предмета ипотеки за собой.</a:t>
            </a: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язательства в предмете гражданского права</a:t>
            </a:r>
            <a:endParaRPr b="0" lang="ru-RU" sz="3300" spc="-1" strike="noStrike">
              <a:solidFill>
                <a:srgbClr val="000000"/>
              </a:solidFill>
              <a:latin typeface="Arial"/>
            </a:endParaRPr>
          </a:p>
        </p:txBody>
      </p:sp>
      <p:sp>
        <p:nvSpPr>
          <p:cNvPr id="19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соотношения имущественных, неимущественных, корпоративных отношений</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58" name="PlaceHolder 2"/>
          <p:cNvSpPr>
            <a:spLocks noGrp="1"/>
          </p:cNvSpPr>
          <p:nvPr>
            <p:ph/>
          </p:nvPr>
        </p:nvSpPr>
        <p:spPr>
          <a:xfrm>
            <a:off x="457200" y="685800"/>
            <a:ext cx="8229240" cy="5439960"/>
          </a:xfrm>
          <a:prstGeom prst="rect">
            <a:avLst/>
          </a:prstGeom>
          <a:noFill/>
          <a:ln w="0">
            <a:noFill/>
          </a:ln>
        </p:spPr>
        <p:txBody>
          <a:bodyPr numCol="1" spcCol="0" anchor="t">
            <a:noAutofit/>
          </a:bodyPr>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Залогодержатель вправе оставить предмет ипотеки за собой в течение месяца после объявления несостоявшимися повторных публичных торгов</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Постановление Президиума ВАС РФ от 17.06.2014 N 2339/14 по делу N А32-33749/2012</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Требование: О признании прекращенными договоров ипотеки и погашении в ЕГРП на недвижимое имущество и сделок с ним записей об ипотеке. Заявлено приобретателем квартиры, находящейся в залоге.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Банк не воспользовался правом забрать предмет залога, забрал исполнительный лист и предъявил его еще раз (такое право предусмотрено ФЗ об исполнительном производстве)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Истец полагал, что, поскольку банк (залогодержатель) в рамках исполнительного производства не воспользовался правом оставить предмет ипотеки за собой в течение месяца после объявления несостоявшимися повторных публичных торгов, ипотека прекратилась.</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Требование удовлетворено, поскольку добросовестный взыскатель-залогодержатель при отзыве исполнительного листа должен был узнать о том, на какой стадии данной процедуры находится реализация предмета ипотеки.</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60" name="PlaceHolder 2"/>
          <p:cNvSpPr>
            <a:spLocks noGrp="1"/>
          </p:cNvSpPr>
          <p:nvPr>
            <p:ph/>
          </p:nvPr>
        </p:nvSpPr>
        <p:spPr>
          <a:xfrm>
            <a:off x="457200" y="380880"/>
            <a:ext cx="8229240" cy="5744880"/>
          </a:xfrm>
          <a:prstGeom prst="rect">
            <a:avLst/>
          </a:prstGeom>
          <a:noFill/>
          <a:ln w="0">
            <a:noFill/>
          </a:ln>
        </p:spPr>
        <p:txBody>
          <a:bodyPr numCol="1" spcCol="0" anchor="t">
            <a:noAutofit/>
          </a:bodyPr>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Ст.408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2. Обязанность кредитора вернуть расписку или иной долговой документ. Неисполнение обязанности выдать расписку об исполнении дает право должнику задержать исполнение без применения к нему мер ответственности. Однако в этом случае он должен доказать факт отказа от принятия исполнения или выдачи расписки.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Обязательство презюмируется исполненным надлежаще, если долговой документ находится у должника. Однако так как всякая презумпция опровержима, кредитор вправе доказывать обратное.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В один день может быть заключено несколько договоров займа на одинаковую сумму, поэтому нахождение у кредитора нескольких идентичных расписок дает право на взыскание долга по каждой из них. (см. определение Санкт-Петербургского городского суда от 26.09.2011 № 33-14550/2011).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3. Вместо задержки исполнения в случаях, предусмотренных гражданским законодательством должник вправе передать денежные суммы и ценные бумаги нотариусу в депозит для передачи их кредитору (ст. 87 Основ законодательства Российской Федерации о нотариате от 11 февраля 1993 г. № 4462-1). Такая возможность в частности предусмотрена п. 1 ст. 327, п. 4 ст. 338 ГК РФ. О поступлении денежных сумм и ценных бумаг нотариус извещает кредитора и по его требованию выдает ему причитающиеся денежные суммы и ценные бумаги. Принимая денежные суммы или ценные бумаги в депозит, нотариус не проверяет основания возникновения прав кредитора и обязанностей должника (см. определение судебной коллегии по гражданским делам Пензенского областного суда от 10 апреля 2001 г.) Принятие в депозит денежных сумм и ценных бумаг производится нотариусом по месту исполнения обязательства, то есть с соблюдением правил ст. 316 ГК РФ. Вместе с тем по одному из дел, требование об отмене нотариального действия по принятию в депозит денежной суммы в связи с тем, что указанное действие совершено не по месту нахождения кредитора, было признано судом не подлежащим удовлетворению, поскольку в рассматриваемый период в районе, где проживал кредитор, был единственный нотариус, имевший действующий депозитный счет, следовательно, нотариус действовал в соответствии с положениями закона и в рамках своих полномочий (определение Ленинградского областного суда от 3 марта 2011 г. № 33-1082/2011).</a:t>
            </a:r>
            <a:endParaRPr b="0" lang="ru-RU"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457200"/>
            <a:ext cx="8229240" cy="5668560"/>
          </a:xfrm>
          <a:prstGeom prst="rect">
            <a:avLst/>
          </a:prstGeom>
          <a:noFill/>
          <a:ln w="0">
            <a:noFill/>
          </a:ln>
        </p:spPr>
        <p:txBody>
          <a:bodyPr numCol="1" spcCol="0" anchor="t">
            <a:noAutofit/>
          </a:bodyPr>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должник вправе требовать – дубликаты договоров займа при отсутствии расписок.</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1" lang="ru-RU" sz="2700" spc="-1" strike="noStrike">
                <a:solidFill>
                  <a:srgbClr val="000000"/>
                </a:solidFill>
                <a:latin typeface="Arial"/>
                <a:ea typeface="Arial"/>
              </a:rPr>
              <a:t>ОПРЕДЕЛЕНИЕ от 11 ноября 2014 г. N 5-КГ14-99</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В подтверждение заключения указанного выше договора займа стороной истца представлена его копия и дубликат, выданный жегловой т.а. нотариусом г. москвы 18 марта 2011 г. взамен утраченного (л.д. 8 - 10, 55 - 60 т. 1).</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КГД - истица должна была доказать, при отсутствии у нее оригинала договора займа, что долговое обязательство не прекращено.</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63" name="PlaceHolder 2"/>
          <p:cNvSpPr>
            <a:spLocks noGrp="1"/>
          </p:cNvSpPr>
          <p:nvPr>
            <p:ph/>
          </p:nvPr>
        </p:nvSpPr>
        <p:spPr>
          <a:xfrm>
            <a:off x="457200" y="457200"/>
            <a:ext cx="8229240" cy="601956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кращение </a:t>
            </a:r>
            <a:r>
              <a:rPr b="1" i="1" lang="ru-RU" sz="1600" spc="-1" strike="noStrike" u="sng">
                <a:solidFill>
                  <a:srgbClr val="000000"/>
                </a:solidFill>
                <a:uFillTx/>
                <a:latin typeface="Arial"/>
                <a:ea typeface="Arial"/>
              </a:rPr>
              <a:t>отступным</a:t>
            </a:r>
            <a:r>
              <a:rPr b="0" lang="ru-RU" sz="1600" spc="-1" strike="noStrike">
                <a:solidFill>
                  <a:srgbClr val="000000"/>
                </a:solidFill>
                <a:latin typeface="Arial"/>
                <a:ea typeface="Arial"/>
              </a:rPr>
              <a:t>. Предмет – недвижимость. С момента подписания до регистрации – просрочка – Банк насчитал пеню.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остановление Президиума ВАС РФ от 10.06.2014 N 2504/14 по делу N А40-79875/2013</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 тех пор, пока переход права собственности на недвижимое имущество, передаваемое в качестве отступного на основании соответствующего соглашения, не зарегистрирован в ЕГРП, собственником этого имущества является сторона, предоставляющая отступное, а не кредитор.</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 соответствии с </a:t>
            </a:r>
            <a:r>
              <a:rPr b="0" lang="ru-RU" sz="1600" spc="-1" strike="noStrike" u="sng">
                <a:solidFill>
                  <a:srgbClr val="99cc00"/>
                </a:solidFill>
                <a:uFillTx/>
                <a:latin typeface="Arial"/>
                <a:ea typeface="Arial"/>
                <a:hlinkClick r:id="rId1"/>
              </a:rPr>
              <a:t>пунктом 11</a:t>
            </a:r>
            <a:r>
              <a:rPr b="0" lang="ru-RU" sz="1600" spc="-1" strike="noStrike">
                <a:solidFill>
                  <a:srgbClr val="000000"/>
                </a:solidFill>
                <a:latin typeface="Arial"/>
                <a:ea typeface="Arial"/>
              </a:rPr>
              <a:t> постановления Пленума Высшего Арбитражного Суда Российской Федерации от 14.03.2014 N 16 "О свободе договора и ее пределах" при разрешении споров, возникающих из договоров, в случае неясности условий договора и невозможности установить действительную общую волю сторон с учетом цели договора, в том числе исходя из текста договора, предшествующих заключению договора переговоров, переписки сторон, практики, установившейся во взаимных отношениях сторон, обычаев, а также последующего поведения сторон договора (</a:t>
            </a:r>
            <a:r>
              <a:rPr b="0" lang="ru-RU" sz="1600" spc="-1" strike="noStrike" u="sng">
                <a:solidFill>
                  <a:srgbClr val="99cc00"/>
                </a:solidFill>
                <a:uFillTx/>
                <a:latin typeface="Arial"/>
                <a:ea typeface="Arial"/>
                <a:hlinkClick r:id="rId2"/>
              </a:rPr>
              <a:t>статья 431</a:t>
            </a:r>
            <a:r>
              <a:rPr b="0" lang="ru-RU" sz="1600" spc="-1" strike="noStrike">
                <a:solidFill>
                  <a:srgbClr val="000000"/>
                </a:solidFill>
                <a:latin typeface="Arial"/>
                <a:ea typeface="Arial"/>
              </a:rPr>
              <a:t> Гражданского кодекса), толкование судом условий договора должно осуществляться в пользу контрагента стороны, которая подготовила проект договора либо предложила формулировку соответствующего условия (толкование contra proferentem). Пока не доказано иное, предполагается, что такой стороной было лицо, являющееся профессионалом в соответствующей сфере, требующей специальных познаний (например, банк по договору кредита, лизингодатель по договору лизинга, страховщик по договору страхования и т.п.).</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мешанные договоры</a:t>
            </a:r>
            <a:endParaRPr b="0" lang="ru-RU" sz="3300" spc="-1" strike="noStrike">
              <a:solidFill>
                <a:srgbClr val="000000"/>
              </a:solidFill>
              <a:latin typeface="Arial"/>
            </a:endParaRPr>
          </a:p>
        </p:txBody>
      </p:sp>
      <p:sp>
        <p:nvSpPr>
          <p:cNvPr id="36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gn="just">
              <a:lnSpc>
                <a:spcPct val="9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К отношениям сторон по смешанному договору применяются в соответствующих частях правила о договорах, элементы которых содержатся в смешанном договоре, если иное не вытекает из соглашения сторон или существа смешанного договора.</a:t>
            </a:r>
            <a:endParaRPr b="0" lang="ru-RU" sz="2200" spc="-1" strike="noStrike">
              <a:solidFill>
                <a:srgbClr val="000000"/>
              </a:solidFill>
              <a:latin typeface="Arial"/>
            </a:endParaRPr>
          </a:p>
          <a:p>
            <a:pPr marL="343080" indent="-343080" algn="just">
              <a:lnSpc>
                <a:spcPct val="9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Договоры на оказание правовой помощи как смешанные договоры (особое мнение судьи КС Гаджиева - </a:t>
            </a:r>
            <a:r>
              <a:rPr b="0" lang="ru-RU" sz="2200" spc="-1" strike="noStrike" u="sng">
                <a:solidFill>
                  <a:srgbClr val="99cc00"/>
                </a:solidFill>
                <a:uFillTx/>
                <a:latin typeface="Arial"/>
                <a:ea typeface="Arial"/>
                <a:hlinkClick r:id="rId1"/>
              </a:rPr>
              <a:t>Постановление</a:t>
            </a:r>
            <a:r>
              <a:rPr b="0" lang="ru-RU" sz="2200" spc="-1" strike="noStrike">
                <a:solidFill>
                  <a:srgbClr val="000000"/>
                </a:solidFill>
                <a:latin typeface="Arial"/>
                <a:ea typeface="Arial"/>
              </a:rPr>
              <a:t> КС РФ от 23.01.2007 N 1-П; Апелляционное определение Московского городского суда от 4 февраля 2014 г. по делу N 33-5899).</a:t>
            </a:r>
            <a:endParaRPr b="0" lang="ru-RU" sz="2200" spc="-1" strike="noStrike">
              <a:solidFill>
                <a:srgbClr val="000000"/>
              </a:solidFill>
              <a:latin typeface="Arial"/>
            </a:endParaRPr>
          </a:p>
          <a:p>
            <a:pPr indent="0">
              <a:lnSpc>
                <a:spcPct val="90000"/>
              </a:lnSpc>
              <a:spcBef>
                <a:spcPts val="439"/>
              </a:spcBef>
              <a:buNone/>
            </a:pP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57600" y="25693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пасибо за внимание!</a:t>
            </a:r>
            <a:endParaRPr b="0" lang="ru-RU" sz="3300" spc="-1" strike="noStrike">
              <a:solidFill>
                <a:srgbClr val="000000"/>
              </a:solidFill>
              <a:latin typeface="Arial"/>
            </a:endParaRPr>
          </a:p>
        </p:txBody>
      </p:sp>
      <p:sp>
        <p:nvSpPr>
          <p:cNvPr id="367"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tudio</Template>
  <TotalTime>1267</TotalTime>
  <Application>LibreOffice/7.4.7.2$Linux_X86_64 LibreOffice_project/40$Build-2</Application>
  <AppVersion>15.0000</AppVersion>
  <Words>8344</Words>
  <Paragraphs>367</Paragraphs>
  <Company>academ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4T08:12:03Z</dcterms:created>
  <dc:creator>acer</dc:creator>
  <dc:description/>
  <dc:language>en-US</dc:language>
  <cp:lastModifiedBy>Admin</cp:lastModifiedBy>
  <cp:lastPrinted>2021-08-05T17:06:03Z</cp:lastPrinted>
  <dcterms:modified xsi:type="dcterms:W3CDTF">2021-08-05T17:07:06Z</dcterms:modified>
  <cp:revision>36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5</vt:r8>
  </property>
</Properties>
</file>